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A804-B04C-4286-8A4A-E5E4EE2B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9D66-B9E2-4805-9494-0AE2322F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56C0-FB30-4DBF-A0D7-0915F836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BB8A-5AA6-48ED-BE96-CB051D71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7225-152A-4BBA-ACB1-BE443B57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C9B6-0889-4462-A0E5-903D9793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DBC1-0CFB-4CA9-9D9D-6ED2489A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0320-DE90-4E58-ACBF-9094A5EF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C449-CD7A-4612-9F9C-4DE77E95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730F-2788-4EB5-9B75-C4AB7370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F974-719A-49A3-BF44-E18C8C6C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EF07-89C7-45B9-A1F2-DCD89CC1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FEAA-9A60-4053-A38B-E7DE20BDD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lasszone.com/cz/books/msmath_1_na/book_home.htm?state=MD" TargetMode="External"/><Relationship Id="rId2" Type="http://schemas.openxmlformats.org/officeDocument/2006/relationships/hyperlink" Target="http://www.classzone.com/cz/books/msmath_1_na/book_home.htm?state=MD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Opener:  Complete the prime factorization of the numbers below.  Be sure to write using expon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72</a:t>
            </a: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2960" y="2463840"/>
            <a:ext cx="571320" cy="314280"/>
          </a:xfrm>
          <a:custGeom>
            <a:avLst/>
            <a:gdLst/>
            <a:ahLst/>
            <a:rect l="l" t="t" r="r" b="b"/>
            <a:pathLst>
              <a:path w="1588" h="869">
                <a:moveTo>
                  <a:pt x="9128" y="6846"/>
                </a:moveTo>
                <a:cubicBezTo>
                  <a:pt x="9044" y="6969"/>
                  <a:pt x="8946" y="7076"/>
                  <a:pt x="8855" y="7193"/>
                </a:cubicBezTo>
                <a:cubicBezTo>
                  <a:pt x="8919" y="7114"/>
                  <a:pt x="8964" y="7022"/>
                  <a:pt x="9029" y="6945"/>
                </a:cubicBezTo>
                <a:cubicBezTo>
                  <a:pt x="9076" y="6899"/>
                  <a:pt x="9090" y="6887"/>
                  <a:pt x="9103" y="6846"/>
                </a:cubicBezTo>
                <a:cubicBezTo>
                  <a:pt x="9186" y="6934"/>
                  <a:pt x="9246" y="7032"/>
                  <a:pt x="9327" y="7119"/>
                </a:cubicBezTo>
                <a:cubicBezTo>
                  <a:pt x="9376" y="7169"/>
                  <a:pt x="9392" y="7186"/>
                  <a:pt x="9426" y="7218"/>
                </a:cubicBezTo>
              </a:path>
              <a:path w="1588" h="869">
                <a:moveTo>
                  <a:pt x="8508" y="7243"/>
                </a:moveTo>
                <a:cubicBezTo>
                  <a:pt x="8408" y="7321"/>
                  <a:pt x="8289" y="7449"/>
                  <a:pt x="8285" y="7590"/>
                </a:cubicBezTo>
                <a:cubicBezTo>
                  <a:pt x="8293" y="7615"/>
                  <a:pt x="8302" y="7640"/>
                  <a:pt x="8310" y="7665"/>
                </a:cubicBezTo>
                <a:cubicBezTo>
                  <a:pt x="8439" y="7696"/>
                  <a:pt x="8580" y="7709"/>
                  <a:pt x="8657" y="7565"/>
                </a:cubicBezTo>
                <a:cubicBezTo>
                  <a:pt x="8657" y="7549"/>
                  <a:pt x="8657" y="7532"/>
                  <a:pt x="8657" y="7516"/>
                </a:cubicBezTo>
                <a:cubicBezTo>
                  <a:pt x="8562" y="7464"/>
                  <a:pt x="8472" y="7442"/>
                  <a:pt x="8434" y="7590"/>
                </a:cubicBezTo>
                <a:cubicBezTo>
                  <a:pt x="8434" y="7668"/>
                  <a:pt x="8419" y="7685"/>
                  <a:pt x="8458" y="7714"/>
                </a:cubicBezTo>
              </a:path>
              <a:path w="1588" h="869">
                <a:moveTo>
                  <a:pt x="9500" y="7268"/>
                </a:moveTo>
                <a:cubicBezTo>
                  <a:pt x="9491" y="7301"/>
                  <a:pt x="9406" y="7511"/>
                  <a:pt x="9426" y="7541"/>
                </a:cubicBezTo>
                <a:cubicBezTo>
                  <a:pt x="9520" y="7682"/>
                  <a:pt x="9656" y="7599"/>
                  <a:pt x="9773" y="7541"/>
                </a:cubicBezTo>
                <a:cubicBezTo>
                  <a:pt x="9843" y="7506"/>
                  <a:pt x="9889" y="7472"/>
                  <a:pt x="9847" y="7392"/>
                </a:cubicBezTo>
                <a:cubicBezTo>
                  <a:pt x="9826" y="7351"/>
                  <a:pt x="9722" y="7352"/>
                  <a:pt x="9699" y="7392"/>
                </a:cubicBezTo>
                <a:cubicBezTo>
                  <a:pt x="9653" y="7473"/>
                  <a:pt x="9674" y="7539"/>
                  <a:pt x="9699" y="76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81200" y="2741760"/>
            <a:ext cx="1544760" cy="536400"/>
          </a:xfrm>
          <a:custGeom>
            <a:avLst/>
            <a:gdLst/>
            <a:ahLst/>
            <a:rect l="l" t="t" r="r" b="b"/>
            <a:pathLst>
              <a:path w="4292" h="1489">
                <a:moveTo>
                  <a:pt x="8062" y="8533"/>
                </a:moveTo>
                <a:lnTo>
                  <a:pt x="8062" y="8533"/>
                </a:lnTo>
              </a:path>
              <a:path w="4292" h="1489">
                <a:moveTo>
                  <a:pt x="8310" y="7888"/>
                </a:moveTo>
                <a:cubicBezTo>
                  <a:pt x="8171" y="7989"/>
                  <a:pt x="8041" y="8116"/>
                  <a:pt x="7913" y="8235"/>
                </a:cubicBezTo>
                <a:cubicBezTo>
                  <a:pt x="8026" y="8147"/>
                  <a:pt x="8109" y="8020"/>
                  <a:pt x="8210" y="7913"/>
                </a:cubicBezTo>
                <a:cubicBezTo>
                  <a:pt x="8238" y="7885"/>
                  <a:pt x="8252" y="7876"/>
                  <a:pt x="8285" y="7888"/>
                </a:cubicBezTo>
                <a:cubicBezTo>
                  <a:pt x="8388" y="7991"/>
                  <a:pt x="8485" y="8109"/>
                  <a:pt x="8607" y="8186"/>
                </a:cubicBezTo>
              </a:path>
              <a:path w="4292" h="1489">
                <a:moveTo>
                  <a:pt x="7739" y="8334"/>
                </a:moveTo>
                <a:cubicBezTo>
                  <a:pt x="7812" y="8310"/>
                  <a:pt x="7836" y="8302"/>
                  <a:pt x="7888" y="8310"/>
                </a:cubicBezTo>
                <a:cubicBezTo>
                  <a:pt x="7921" y="8484"/>
                  <a:pt x="7918" y="8609"/>
                  <a:pt x="7739" y="8706"/>
                </a:cubicBezTo>
                <a:cubicBezTo>
                  <a:pt x="7706" y="8714"/>
                  <a:pt x="7673" y="8723"/>
                  <a:pt x="7640" y="8731"/>
                </a:cubicBezTo>
                <a:cubicBezTo>
                  <a:pt x="7558" y="8650"/>
                  <a:pt x="7711" y="8542"/>
                  <a:pt x="7813" y="8533"/>
                </a:cubicBezTo>
                <a:cubicBezTo>
                  <a:pt x="7918" y="8523"/>
                  <a:pt x="7982" y="8568"/>
                  <a:pt x="8037" y="8632"/>
                </a:cubicBezTo>
              </a:path>
              <a:path w="4292" h="1489">
                <a:moveTo>
                  <a:pt x="8632" y="8359"/>
                </a:moveTo>
                <a:cubicBezTo>
                  <a:pt x="8648" y="8353"/>
                  <a:pt x="8913" y="8240"/>
                  <a:pt x="8880" y="8384"/>
                </a:cubicBezTo>
                <a:cubicBezTo>
                  <a:pt x="8828" y="8462"/>
                  <a:pt x="8807" y="8487"/>
                  <a:pt x="8731" y="8483"/>
                </a:cubicBezTo>
                <a:cubicBezTo>
                  <a:pt x="8723" y="8491"/>
                  <a:pt x="8714" y="8500"/>
                  <a:pt x="8706" y="8508"/>
                </a:cubicBezTo>
                <a:cubicBezTo>
                  <a:pt x="8758" y="8477"/>
                  <a:pt x="8939" y="8408"/>
                  <a:pt x="8880" y="8558"/>
                </a:cubicBezTo>
                <a:cubicBezTo>
                  <a:pt x="8833" y="8676"/>
                  <a:pt x="8635" y="8708"/>
                  <a:pt x="8558" y="8607"/>
                </a:cubicBezTo>
                <a:cubicBezTo>
                  <a:pt x="8550" y="8582"/>
                  <a:pt x="8541" y="8558"/>
                  <a:pt x="8533" y="8533"/>
                </a:cubicBezTo>
              </a:path>
              <a:path w="4292" h="1489">
                <a:moveTo>
                  <a:pt x="9847" y="7888"/>
                </a:moveTo>
                <a:cubicBezTo>
                  <a:pt x="9809" y="8005"/>
                  <a:pt x="9808" y="8024"/>
                  <a:pt x="9773" y="8086"/>
                </a:cubicBezTo>
                <a:cubicBezTo>
                  <a:pt x="9827" y="7926"/>
                  <a:pt x="9877" y="7768"/>
                  <a:pt x="9947" y="7615"/>
                </a:cubicBezTo>
                <a:cubicBezTo>
                  <a:pt x="10044" y="7688"/>
                  <a:pt x="10089" y="7794"/>
                  <a:pt x="10170" y="7888"/>
                </a:cubicBezTo>
                <a:cubicBezTo>
                  <a:pt x="10235" y="7964"/>
                  <a:pt x="10306" y="7993"/>
                  <a:pt x="10393" y="8037"/>
                </a:cubicBezTo>
              </a:path>
              <a:path w="4292" h="1489">
                <a:moveTo>
                  <a:pt x="9773" y="8260"/>
                </a:moveTo>
                <a:cubicBezTo>
                  <a:pt x="9877" y="8278"/>
                  <a:pt x="10057" y="8342"/>
                  <a:pt x="9922" y="8483"/>
                </a:cubicBezTo>
                <a:cubicBezTo>
                  <a:pt x="9835" y="8575"/>
                  <a:pt x="9761" y="8537"/>
                  <a:pt x="9699" y="8483"/>
                </a:cubicBezTo>
                <a:cubicBezTo>
                  <a:pt x="9804" y="8378"/>
                  <a:pt x="9869" y="8415"/>
                  <a:pt x="9996" y="8483"/>
                </a:cubicBezTo>
              </a:path>
              <a:path w="4292" h="1489">
                <a:moveTo>
                  <a:pt x="10616" y="8161"/>
                </a:moveTo>
                <a:cubicBezTo>
                  <a:pt x="10557" y="8131"/>
                  <a:pt x="10716" y="8096"/>
                  <a:pt x="10765" y="8086"/>
                </a:cubicBezTo>
                <a:cubicBezTo>
                  <a:pt x="10752" y="8192"/>
                  <a:pt x="10710" y="8208"/>
                  <a:pt x="10616" y="8260"/>
                </a:cubicBezTo>
                <a:cubicBezTo>
                  <a:pt x="10728" y="8215"/>
                  <a:pt x="10908" y="8190"/>
                  <a:pt x="10889" y="8384"/>
                </a:cubicBezTo>
                <a:cubicBezTo>
                  <a:pt x="10875" y="8528"/>
                  <a:pt x="10725" y="8508"/>
                  <a:pt x="10641" y="8508"/>
                </a:cubicBezTo>
              </a:path>
              <a:path w="4292" h="1489">
                <a:moveTo>
                  <a:pt x="7268" y="8582"/>
                </a:moveTo>
                <a:cubicBezTo>
                  <a:pt x="7307" y="8750"/>
                  <a:pt x="7317" y="8910"/>
                  <a:pt x="7541" y="8930"/>
                </a:cubicBezTo>
                <a:cubicBezTo>
                  <a:pt x="7757" y="8949"/>
                  <a:pt x="8141" y="8845"/>
                  <a:pt x="8136" y="8582"/>
                </a:cubicBezTo>
                <a:cubicBezTo>
                  <a:pt x="8130" y="8272"/>
                  <a:pt x="7830" y="8225"/>
                  <a:pt x="7590" y="8235"/>
                </a:cubicBezTo>
                <a:cubicBezTo>
                  <a:pt x="7304" y="8247"/>
                  <a:pt x="7091" y="8421"/>
                  <a:pt x="7193" y="8731"/>
                </a:cubicBezTo>
                <a:cubicBezTo>
                  <a:pt x="7299" y="8889"/>
                  <a:pt x="7342" y="8942"/>
                  <a:pt x="7491" y="8954"/>
                </a:cubicBezTo>
              </a:path>
              <a:path w="4292" h="1489">
                <a:moveTo>
                  <a:pt x="8632" y="8880"/>
                </a:moveTo>
                <a:cubicBezTo>
                  <a:pt x="8799" y="8963"/>
                  <a:pt x="8963" y="9000"/>
                  <a:pt x="9128" y="8855"/>
                </a:cubicBezTo>
                <a:cubicBezTo>
                  <a:pt x="9335" y="8673"/>
                  <a:pt x="9244" y="8402"/>
                  <a:pt x="9103" y="8210"/>
                </a:cubicBezTo>
                <a:cubicBezTo>
                  <a:pt x="8950" y="8002"/>
                  <a:pt x="8728" y="7985"/>
                  <a:pt x="8533" y="8136"/>
                </a:cubicBezTo>
                <a:cubicBezTo>
                  <a:pt x="8318" y="8303"/>
                  <a:pt x="8079" y="8686"/>
                  <a:pt x="8458" y="8830"/>
                </a:cubicBezTo>
                <a:cubicBezTo>
                  <a:pt x="8566" y="8847"/>
                  <a:pt x="8673" y="8863"/>
                  <a:pt x="8781" y="8880"/>
                </a:cubicBezTo>
              </a:path>
              <a:path w="4292" h="1489">
                <a:moveTo>
                  <a:pt x="9624" y="8706"/>
                </a:moveTo>
                <a:cubicBezTo>
                  <a:pt x="9762" y="8807"/>
                  <a:pt x="9858" y="8878"/>
                  <a:pt x="10071" y="8806"/>
                </a:cubicBezTo>
                <a:cubicBezTo>
                  <a:pt x="10333" y="8717"/>
                  <a:pt x="10464" y="8459"/>
                  <a:pt x="10220" y="8260"/>
                </a:cubicBezTo>
                <a:cubicBezTo>
                  <a:pt x="10064" y="8133"/>
                  <a:pt x="9637" y="8002"/>
                  <a:pt x="9475" y="8186"/>
                </a:cubicBezTo>
                <a:cubicBezTo>
                  <a:pt x="9200" y="8499"/>
                  <a:pt x="9473" y="8701"/>
                  <a:pt x="9723" y="8830"/>
                </a:cubicBezTo>
              </a:path>
              <a:path w="4292" h="1489">
                <a:moveTo>
                  <a:pt x="10567" y="8731"/>
                </a:moveTo>
                <a:cubicBezTo>
                  <a:pt x="10723" y="8874"/>
                  <a:pt x="10950" y="8859"/>
                  <a:pt x="11162" y="8781"/>
                </a:cubicBezTo>
                <a:cubicBezTo>
                  <a:pt x="11415" y="8688"/>
                  <a:pt x="11495" y="8407"/>
                  <a:pt x="11336" y="8186"/>
                </a:cubicBezTo>
                <a:cubicBezTo>
                  <a:pt x="11225" y="8031"/>
                  <a:pt x="10944" y="7958"/>
                  <a:pt x="10765" y="7962"/>
                </a:cubicBezTo>
                <a:cubicBezTo>
                  <a:pt x="10646" y="7965"/>
                  <a:pt x="10455" y="8055"/>
                  <a:pt x="10393" y="8161"/>
                </a:cubicBezTo>
                <a:cubicBezTo>
                  <a:pt x="10274" y="8365"/>
                  <a:pt x="10333" y="8612"/>
                  <a:pt x="10492" y="8781"/>
                </a:cubicBezTo>
                <a:cubicBezTo>
                  <a:pt x="10542" y="8814"/>
                  <a:pt x="10591" y="8847"/>
                  <a:pt x="10641" y="8880"/>
                </a:cubicBezTo>
              </a:path>
              <a:path w="4292" h="1489">
                <a:moveTo>
                  <a:pt x="7541" y="9004"/>
                </a:moveTo>
                <a:cubicBezTo>
                  <a:pt x="7692" y="9179"/>
                  <a:pt x="7750" y="9024"/>
                  <a:pt x="7913" y="8880"/>
                </a:cubicBezTo>
              </a:path>
              <a:path w="4292" h="1489">
                <a:moveTo>
                  <a:pt x="9748" y="8905"/>
                </a:moveTo>
                <a:cubicBezTo>
                  <a:pt x="9884" y="9059"/>
                  <a:pt x="9920" y="8958"/>
                  <a:pt x="10071" y="8830"/>
                </a:cubicBezTo>
              </a:path>
              <a:path w="4292" h="1489">
                <a:moveTo>
                  <a:pt x="8830" y="8905"/>
                </a:moveTo>
                <a:cubicBezTo>
                  <a:pt x="9000" y="8989"/>
                  <a:pt x="8917" y="9055"/>
                  <a:pt x="9128" y="8905"/>
                </a:cubicBezTo>
                <a:cubicBezTo>
                  <a:pt x="9202" y="8847"/>
                  <a:pt x="9277" y="8789"/>
                  <a:pt x="9351" y="8731"/>
                </a:cubicBezTo>
              </a:path>
              <a:path w="4292" h="1489">
                <a:moveTo>
                  <a:pt x="11063" y="8880"/>
                </a:moveTo>
                <a:cubicBezTo>
                  <a:pt x="11134" y="9010"/>
                  <a:pt x="11170" y="9050"/>
                  <a:pt x="11311" y="8930"/>
                </a:cubicBezTo>
                <a:cubicBezTo>
                  <a:pt x="11361" y="8880"/>
                  <a:pt x="11410" y="8831"/>
                  <a:pt x="11460" y="87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26000" y="2509920"/>
            <a:ext cx="1116000" cy="463320"/>
          </a:xfrm>
          <a:custGeom>
            <a:avLst/>
            <a:gdLst/>
            <a:ahLst/>
            <a:rect l="l" t="t" r="r" b="b"/>
            <a:pathLst>
              <a:path w="3101" h="1291">
                <a:moveTo>
                  <a:pt x="13295" y="7516"/>
                </a:moveTo>
                <a:cubicBezTo>
                  <a:pt x="13187" y="7654"/>
                  <a:pt x="13314" y="7544"/>
                  <a:pt x="13419" y="7541"/>
                </a:cubicBezTo>
                <a:cubicBezTo>
                  <a:pt x="13763" y="7532"/>
                  <a:pt x="13537" y="7985"/>
                  <a:pt x="13395" y="8086"/>
                </a:cubicBezTo>
                <a:cubicBezTo>
                  <a:pt x="13229" y="8204"/>
                  <a:pt x="13011" y="8213"/>
                  <a:pt x="12849" y="8111"/>
                </a:cubicBezTo>
                <a:cubicBezTo>
                  <a:pt x="13044" y="8003"/>
                  <a:pt x="13193" y="7974"/>
                  <a:pt x="13395" y="8111"/>
                </a:cubicBezTo>
                <a:cubicBezTo>
                  <a:pt x="13463" y="8180"/>
                  <a:pt x="13484" y="8196"/>
                  <a:pt x="13494" y="8260"/>
                </a:cubicBezTo>
              </a:path>
              <a:path w="3101" h="1291">
                <a:moveTo>
                  <a:pt x="13692" y="7119"/>
                </a:moveTo>
                <a:cubicBezTo>
                  <a:pt x="13813" y="7076"/>
                  <a:pt x="14037" y="7005"/>
                  <a:pt x="14064" y="7218"/>
                </a:cubicBezTo>
                <a:cubicBezTo>
                  <a:pt x="14093" y="7449"/>
                  <a:pt x="13854" y="7421"/>
                  <a:pt x="13717" y="7441"/>
                </a:cubicBezTo>
                <a:cubicBezTo>
                  <a:pt x="13658" y="7441"/>
                  <a:pt x="13644" y="7432"/>
                  <a:pt x="13692" y="7367"/>
                </a:cubicBezTo>
                <a:cubicBezTo>
                  <a:pt x="13886" y="7325"/>
                  <a:pt x="13933" y="7374"/>
                  <a:pt x="14089" y="7491"/>
                </a:cubicBezTo>
              </a:path>
              <a:path w="3101" h="1291">
                <a:moveTo>
                  <a:pt x="14412" y="7714"/>
                </a:moveTo>
                <a:cubicBezTo>
                  <a:pt x="14496" y="7852"/>
                  <a:pt x="14601" y="7972"/>
                  <a:pt x="14684" y="8111"/>
                </a:cubicBezTo>
              </a:path>
              <a:path w="3101" h="1291">
                <a:moveTo>
                  <a:pt x="14684" y="7665"/>
                </a:moveTo>
                <a:cubicBezTo>
                  <a:pt x="14546" y="7764"/>
                  <a:pt x="14484" y="7940"/>
                  <a:pt x="14387" y="8086"/>
                </a:cubicBezTo>
                <a:cubicBezTo>
                  <a:pt x="14379" y="8094"/>
                  <a:pt x="14370" y="8103"/>
                  <a:pt x="14362" y="8111"/>
                </a:cubicBezTo>
              </a:path>
              <a:path w="3101" h="1291">
                <a:moveTo>
                  <a:pt x="15007" y="7714"/>
                </a:moveTo>
                <a:cubicBezTo>
                  <a:pt x="15070" y="7683"/>
                  <a:pt x="15354" y="7552"/>
                  <a:pt x="15354" y="7739"/>
                </a:cubicBezTo>
                <a:cubicBezTo>
                  <a:pt x="15354" y="7811"/>
                  <a:pt x="15229" y="7880"/>
                  <a:pt x="15180" y="7913"/>
                </a:cubicBezTo>
                <a:cubicBezTo>
                  <a:pt x="15188" y="7905"/>
                  <a:pt x="15197" y="7896"/>
                  <a:pt x="15205" y="7888"/>
                </a:cubicBezTo>
                <a:cubicBezTo>
                  <a:pt x="15348" y="7908"/>
                  <a:pt x="15685" y="8007"/>
                  <a:pt x="15429" y="8210"/>
                </a:cubicBezTo>
                <a:cubicBezTo>
                  <a:pt x="15246" y="8355"/>
                  <a:pt x="15133" y="8235"/>
                  <a:pt x="15007" y="8136"/>
                </a:cubicBezTo>
              </a:path>
              <a:path w="3101" h="1291">
                <a:moveTo>
                  <a:pt x="15553" y="6970"/>
                </a:moveTo>
                <a:cubicBezTo>
                  <a:pt x="15705" y="6984"/>
                  <a:pt x="15847" y="7010"/>
                  <a:pt x="15875" y="7193"/>
                </a:cubicBezTo>
                <a:cubicBezTo>
                  <a:pt x="15904" y="7383"/>
                  <a:pt x="15602" y="7293"/>
                  <a:pt x="15528" y="7268"/>
                </a:cubicBezTo>
                <a:cubicBezTo>
                  <a:pt x="15693" y="7222"/>
                  <a:pt x="15795" y="7274"/>
                  <a:pt x="15949" y="73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3973680"/>
            <a:ext cx="1241280" cy="901440"/>
          </a:xfrm>
          <a:custGeom>
            <a:avLst/>
            <a:gdLst/>
            <a:ahLst/>
            <a:rect l="l" t="t" r="r" b="b"/>
            <a:pathLst>
              <a:path w="3449" h="2506">
                <a:moveTo>
                  <a:pt x="9079" y="11063"/>
                </a:moveTo>
                <a:cubicBezTo>
                  <a:pt x="8970" y="11222"/>
                  <a:pt x="8854" y="11381"/>
                  <a:pt x="8806" y="11559"/>
                </a:cubicBezTo>
                <a:cubicBezTo>
                  <a:pt x="8848" y="11416"/>
                  <a:pt x="8971" y="11221"/>
                  <a:pt x="9054" y="11088"/>
                </a:cubicBezTo>
                <a:cubicBezTo>
                  <a:pt x="9070" y="11071"/>
                  <a:pt x="9087" y="11055"/>
                  <a:pt x="9103" y="11038"/>
                </a:cubicBezTo>
                <a:cubicBezTo>
                  <a:pt x="9200" y="11066"/>
                  <a:pt x="9249" y="11213"/>
                  <a:pt x="9302" y="11311"/>
                </a:cubicBezTo>
                <a:cubicBezTo>
                  <a:pt x="9344" y="11389"/>
                  <a:pt x="9368" y="11462"/>
                  <a:pt x="9401" y="11534"/>
                </a:cubicBezTo>
                <a:cubicBezTo>
                  <a:pt x="9409" y="11542"/>
                  <a:pt x="9418" y="11551"/>
                  <a:pt x="9426" y="11559"/>
                </a:cubicBezTo>
              </a:path>
              <a:path w="3449" h="2506">
                <a:moveTo>
                  <a:pt x="8682" y="11708"/>
                </a:moveTo>
                <a:cubicBezTo>
                  <a:pt x="8588" y="11708"/>
                  <a:pt x="8531" y="11689"/>
                  <a:pt x="8434" y="11708"/>
                </a:cubicBezTo>
                <a:cubicBezTo>
                  <a:pt x="8268" y="11740"/>
                  <a:pt x="8314" y="11756"/>
                  <a:pt x="8260" y="11881"/>
                </a:cubicBezTo>
                <a:cubicBezTo>
                  <a:pt x="8252" y="11889"/>
                  <a:pt x="8243" y="11898"/>
                  <a:pt x="8235" y="11906"/>
                </a:cubicBezTo>
                <a:cubicBezTo>
                  <a:pt x="8347" y="11897"/>
                  <a:pt x="8508" y="11832"/>
                  <a:pt x="8558" y="11981"/>
                </a:cubicBezTo>
                <a:cubicBezTo>
                  <a:pt x="8631" y="12200"/>
                  <a:pt x="8346" y="12239"/>
                  <a:pt x="8210" y="12204"/>
                </a:cubicBezTo>
                <a:cubicBezTo>
                  <a:pt x="8177" y="12187"/>
                  <a:pt x="8144" y="12171"/>
                  <a:pt x="8111" y="12154"/>
                </a:cubicBezTo>
              </a:path>
              <a:path w="3449" h="2506">
                <a:moveTo>
                  <a:pt x="9674" y="11733"/>
                </a:moveTo>
                <a:cubicBezTo>
                  <a:pt x="9772" y="11668"/>
                  <a:pt x="9578" y="11642"/>
                  <a:pt x="9525" y="11658"/>
                </a:cubicBezTo>
                <a:cubicBezTo>
                  <a:pt x="9407" y="11694"/>
                  <a:pt x="9380" y="11813"/>
                  <a:pt x="9401" y="11906"/>
                </a:cubicBezTo>
                <a:cubicBezTo>
                  <a:pt x="9554" y="11895"/>
                  <a:pt x="9612" y="11886"/>
                  <a:pt x="9699" y="11757"/>
                </a:cubicBezTo>
                <a:cubicBezTo>
                  <a:pt x="9693" y="11908"/>
                  <a:pt x="9682" y="12032"/>
                  <a:pt x="9649" y="12179"/>
                </a:cubicBezTo>
              </a:path>
              <a:path w="3449" h="2506">
                <a:moveTo>
                  <a:pt x="9624" y="12353"/>
                </a:moveTo>
                <a:cubicBezTo>
                  <a:pt x="9510" y="12429"/>
                  <a:pt x="9417" y="12607"/>
                  <a:pt x="9327" y="12725"/>
                </a:cubicBezTo>
                <a:cubicBezTo>
                  <a:pt x="9434" y="12598"/>
                  <a:pt x="9512" y="12401"/>
                  <a:pt x="9649" y="12303"/>
                </a:cubicBezTo>
                <a:cubicBezTo>
                  <a:pt x="9657" y="12303"/>
                  <a:pt x="9666" y="12303"/>
                  <a:pt x="9674" y="12303"/>
                </a:cubicBezTo>
                <a:cubicBezTo>
                  <a:pt x="9768" y="12445"/>
                  <a:pt x="9799" y="12609"/>
                  <a:pt x="9872" y="12774"/>
                </a:cubicBezTo>
              </a:path>
              <a:path w="3449" h="2506">
                <a:moveTo>
                  <a:pt x="9004" y="12948"/>
                </a:moveTo>
                <a:cubicBezTo>
                  <a:pt x="9057" y="12911"/>
                  <a:pt x="9335" y="12768"/>
                  <a:pt x="9252" y="12973"/>
                </a:cubicBezTo>
                <a:cubicBezTo>
                  <a:pt x="9215" y="13064"/>
                  <a:pt x="9115" y="13065"/>
                  <a:pt x="9079" y="13047"/>
                </a:cubicBezTo>
                <a:cubicBezTo>
                  <a:pt x="9186" y="13033"/>
                  <a:pt x="9190" y="13014"/>
                  <a:pt x="9277" y="13072"/>
                </a:cubicBezTo>
                <a:cubicBezTo>
                  <a:pt x="9260" y="13175"/>
                  <a:pt x="9165" y="13344"/>
                  <a:pt x="9029" y="13221"/>
                </a:cubicBezTo>
                <a:cubicBezTo>
                  <a:pt x="9021" y="13196"/>
                  <a:pt x="9012" y="13171"/>
                  <a:pt x="9004" y="13146"/>
                </a:cubicBezTo>
              </a:path>
              <a:path w="3449" h="2506">
                <a:moveTo>
                  <a:pt x="9947" y="12898"/>
                </a:moveTo>
                <a:cubicBezTo>
                  <a:pt x="10052" y="12848"/>
                  <a:pt x="10270" y="12793"/>
                  <a:pt x="10220" y="12898"/>
                </a:cubicBezTo>
                <a:cubicBezTo>
                  <a:pt x="10166" y="12952"/>
                  <a:pt x="10144" y="12973"/>
                  <a:pt x="10096" y="12998"/>
                </a:cubicBezTo>
                <a:cubicBezTo>
                  <a:pt x="10205" y="12998"/>
                  <a:pt x="10231" y="12993"/>
                  <a:pt x="10294" y="13022"/>
                </a:cubicBezTo>
                <a:cubicBezTo>
                  <a:pt x="10308" y="13189"/>
                  <a:pt x="10254" y="13204"/>
                  <a:pt x="10096" y="13196"/>
                </a:cubicBezTo>
                <a:cubicBezTo>
                  <a:pt x="10088" y="13196"/>
                  <a:pt x="10079" y="13196"/>
                  <a:pt x="10071" y="13196"/>
                </a:cubicBezTo>
              </a:path>
              <a:path w="3449" h="2506">
                <a:moveTo>
                  <a:pt x="7764" y="12353"/>
                </a:moveTo>
                <a:cubicBezTo>
                  <a:pt x="7880" y="12574"/>
                  <a:pt x="8009" y="12671"/>
                  <a:pt x="8285" y="12626"/>
                </a:cubicBezTo>
                <a:cubicBezTo>
                  <a:pt x="8616" y="12572"/>
                  <a:pt x="8905" y="12415"/>
                  <a:pt x="9004" y="12080"/>
                </a:cubicBezTo>
                <a:cubicBezTo>
                  <a:pt x="9095" y="11773"/>
                  <a:pt x="8870" y="11524"/>
                  <a:pt x="8582" y="11435"/>
                </a:cubicBezTo>
                <a:cubicBezTo>
                  <a:pt x="8294" y="11346"/>
                  <a:pt x="7865" y="11457"/>
                  <a:pt x="7714" y="11733"/>
                </a:cubicBezTo>
                <a:cubicBezTo>
                  <a:pt x="7462" y="12194"/>
                  <a:pt x="7531" y="12463"/>
                  <a:pt x="7913" y="12725"/>
                </a:cubicBezTo>
              </a:path>
              <a:path w="3449" h="2506">
                <a:moveTo>
                  <a:pt x="8657" y="13221"/>
                </a:moveTo>
                <a:cubicBezTo>
                  <a:pt x="8636" y="13344"/>
                  <a:pt x="8828" y="13425"/>
                  <a:pt x="8954" y="13444"/>
                </a:cubicBezTo>
                <a:cubicBezTo>
                  <a:pt x="9202" y="13482"/>
                  <a:pt x="9529" y="13283"/>
                  <a:pt x="9575" y="13022"/>
                </a:cubicBezTo>
                <a:cubicBezTo>
                  <a:pt x="9641" y="12649"/>
                  <a:pt x="9312" y="12509"/>
                  <a:pt x="9004" y="12551"/>
                </a:cubicBezTo>
                <a:cubicBezTo>
                  <a:pt x="8639" y="12601"/>
                  <a:pt x="8361" y="12948"/>
                  <a:pt x="8558" y="13320"/>
                </a:cubicBezTo>
                <a:cubicBezTo>
                  <a:pt x="8778" y="13513"/>
                  <a:pt x="8872" y="13575"/>
                  <a:pt x="9103" y="13543"/>
                </a:cubicBezTo>
              </a:path>
              <a:path w="3449" h="2506">
                <a:moveTo>
                  <a:pt x="9897" y="13395"/>
                </a:moveTo>
                <a:cubicBezTo>
                  <a:pt x="10104" y="13485"/>
                  <a:pt x="10368" y="13490"/>
                  <a:pt x="10592" y="13419"/>
                </a:cubicBezTo>
                <a:cubicBezTo>
                  <a:pt x="10837" y="13342"/>
                  <a:pt x="11114" y="12997"/>
                  <a:pt x="10988" y="12725"/>
                </a:cubicBezTo>
                <a:cubicBezTo>
                  <a:pt x="10810" y="12342"/>
                  <a:pt x="10159" y="12386"/>
                  <a:pt x="9872" y="12601"/>
                </a:cubicBezTo>
                <a:cubicBezTo>
                  <a:pt x="9323" y="13013"/>
                  <a:pt x="9882" y="13316"/>
                  <a:pt x="10220" y="134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19760" y="3768840"/>
            <a:ext cx="866520" cy="438120"/>
          </a:xfrm>
          <a:custGeom>
            <a:avLst/>
            <a:gdLst/>
            <a:ahLst/>
            <a:rect l="l" t="t" r="r" b="b"/>
            <a:pathLst>
              <a:path w="2407" h="1216">
                <a:moveTo>
                  <a:pt x="13667" y="11112"/>
                </a:moveTo>
                <a:cubicBezTo>
                  <a:pt x="13748" y="11085"/>
                  <a:pt x="14109" y="10970"/>
                  <a:pt x="14064" y="11187"/>
                </a:cubicBezTo>
                <a:cubicBezTo>
                  <a:pt x="14036" y="11319"/>
                  <a:pt x="13867" y="11350"/>
                  <a:pt x="13767" y="11385"/>
                </a:cubicBezTo>
                <a:cubicBezTo>
                  <a:pt x="13860" y="11320"/>
                  <a:pt x="14133" y="11257"/>
                  <a:pt x="14139" y="11485"/>
                </a:cubicBezTo>
                <a:cubicBezTo>
                  <a:pt x="14145" y="11732"/>
                  <a:pt x="13849" y="11658"/>
                  <a:pt x="13717" y="11658"/>
                </a:cubicBezTo>
              </a:path>
              <a:path w="2407" h="1216">
                <a:moveTo>
                  <a:pt x="14213" y="10468"/>
                </a:moveTo>
                <a:cubicBezTo>
                  <a:pt x="14352" y="10502"/>
                  <a:pt x="14596" y="10549"/>
                  <a:pt x="14536" y="10765"/>
                </a:cubicBezTo>
                <a:cubicBezTo>
                  <a:pt x="14470" y="11001"/>
                  <a:pt x="14219" y="10943"/>
                  <a:pt x="14089" y="10864"/>
                </a:cubicBezTo>
                <a:cubicBezTo>
                  <a:pt x="14279" y="10856"/>
                  <a:pt x="14363" y="10863"/>
                  <a:pt x="14486" y="11013"/>
                </a:cubicBezTo>
              </a:path>
              <a:path w="2407" h="1216">
                <a:moveTo>
                  <a:pt x="14734" y="11112"/>
                </a:moveTo>
                <a:cubicBezTo>
                  <a:pt x="14865" y="11218"/>
                  <a:pt x="14991" y="11317"/>
                  <a:pt x="15131" y="11410"/>
                </a:cubicBezTo>
              </a:path>
              <a:path w="2407" h="1216">
                <a:moveTo>
                  <a:pt x="15131" y="10939"/>
                </a:moveTo>
                <a:cubicBezTo>
                  <a:pt x="15000" y="11108"/>
                  <a:pt x="14924" y="11305"/>
                  <a:pt x="14808" y="11485"/>
                </a:cubicBezTo>
                <a:cubicBezTo>
                  <a:pt x="14800" y="11493"/>
                  <a:pt x="14792" y="11501"/>
                  <a:pt x="14784" y="11509"/>
                </a:cubicBezTo>
              </a:path>
              <a:path w="2407" h="1216">
                <a:moveTo>
                  <a:pt x="15825" y="10864"/>
                </a:moveTo>
                <a:cubicBezTo>
                  <a:pt x="15607" y="10864"/>
                  <a:pt x="15564" y="10854"/>
                  <a:pt x="15503" y="11088"/>
                </a:cubicBezTo>
                <a:cubicBezTo>
                  <a:pt x="15503" y="11129"/>
                  <a:pt x="15503" y="11137"/>
                  <a:pt x="15503" y="11162"/>
                </a:cubicBezTo>
                <a:cubicBezTo>
                  <a:pt x="15672" y="11086"/>
                  <a:pt x="15860" y="10982"/>
                  <a:pt x="16024" y="11137"/>
                </a:cubicBezTo>
                <a:cubicBezTo>
                  <a:pt x="16238" y="11339"/>
                  <a:pt x="15881" y="11521"/>
                  <a:pt x="15726" y="11509"/>
                </a:cubicBezTo>
                <a:cubicBezTo>
                  <a:pt x="15668" y="11493"/>
                  <a:pt x="15611" y="11476"/>
                  <a:pt x="15553" y="114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1840" y="5510160"/>
            <a:ext cx="2357280" cy="1231920"/>
          </a:xfrm>
          <a:custGeom>
            <a:avLst/>
            <a:gdLst/>
            <a:ahLst/>
            <a:rect l="l" t="t" r="r" b="b"/>
            <a:pathLst>
              <a:path w="6549" h="3425">
                <a:moveTo>
                  <a:pt x="9153" y="15354"/>
                </a:moveTo>
                <a:cubicBezTo>
                  <a:pt x="9090" y="15526"/>
                  <a:pt x="9008" y="15695"/>
                  <a:pt x="8954" y="15875"/>
                </a:cubicBezTo>
                <a:cubicBezTo>
                  <a:pt x="9014" y="15697"/>
                  <a:pt x="9080" y="15540"/>
                  <a:pt x="9178" y="15379"/>
                </a:cubicBezTo>
                <a:cubicBezTo>
                  <a:pt x="9194" y="15354"/>
                  <a:pt x="9211" y="15329"/>
                  <a:pt x="9227" y="15304"/>
                </a:cubicBezTo>
                <a:cubicBezTo>
                  <a:pt x="9338" y="15470"/>
                  <a:pt x="9464" y="15628"/>
                  <a:pt x="9599" y="15776"/>
                </a:cubicBezTo>
                <a:cubicBezTo>
                  <a:pt x="9607" y="15784"/>
                  <a:pt x="9616" y="15793"/>
                  <a:pt x="9624" y="15801"/>
                </a:cubicBezTo>
              </a:path>
              <a:path w="6549" h="3425">
                <a:moveTo>
                  <a:pt x="8806" y="16098"/>
                </a:moveTo>
                <a:cubicBezTo>
                  <a:pt x="8764" y="15995"/>
                  <a:pt x="8785" y="16016"/>
                  <a:pt x="8682" y="15974"/>
                </a:cubicBezTo>
                <a:cubicBezTo>
                  <a:pt x="8518" y="16056"/>
                  <a:pt x="8497" y="16134"/>
                  <a:pt x="8508" y="16321"/>
                </a:cubicBezTo>
                <a:cubicBezTo>
                  <a:pt x="8689" y="16289"/>
                  <a:pt x="8750" y="16224"/>
                  <a:pt x="8806" y="16049"/>
                </a:cubicBezTo>
                <a:cubicBezTo>
                  <a:pt x="8806" y="16041"/>
                  <a:pt x="8806" y="16032"/>
                  <a:pt x="8806" y="16024"/>
                </a:cubicBezTo>
                <a:cubicBezTo>
                  <a:pt x="8862" y="16139"/>
                  <a:pt x="8849" y="16335"/>
                  <a:pt x="8830" y="16470"/>
                </a:cubicBezTo>
                <a:cubicBezTo>
                  <a:pt x="8822" y="16487"/>
                  <a:pt x="8814" y="16503"/>
                  <a:pt x="8806" y="16520"/>
                </a:cubicBezTo>
              </a:path>
              <a:path w="6549" h="3425">
                <a:moveTo>
                  <a:pt x="10071" y="16049"/>
                </a:moveTo>
                <a:cubicBezTo>
                  <a:pt x="10033" y="15898"/>
                  <a:pt x="9888" y="15940"/>
                  <a:pt x="9773" y="16024"/>
                </a:cubicBezTo>
                <a:cubicBezTo>
                  <a:pt x="9765" y="16040"/>
                  <a:pt x="9756" y="16057"/>
                  <a:pt x="9748" y="16073"/>
                </a:cubicBezTo>
                <a:cubicBezTo>
                  <a:pt x="9895" y="16186"/>
                  <a:pt x="10045" y="16175"/>
                  <a:pt x="10145" y="16346"/>
                </a:cubicBezTo>
                <a:cubicBezTo>
                  <a:pt x="10060" y="16413"/>
                  <a:pt x="9923" y="16478"/>
                  <a:pt x="9897" y="16297"/>
                </a:cubicBezTo>
                <a:cubicBezTo>
                  <a:pt x="9874" y="16136"/>
                  <a:pt x="10100" y="16066"/>
                  <a:pt x="10145" y="15949"/>
                </a:cubicBezTo>
                <a:cubicBezTo>
                  <a:pt x="10129" y="15957"/>
                  <a:pt x="10112" y="15966"/>
                  <a:pt x="10096" y="15974"/>
                </a:cubicBezTo>
              </a:path>
              <a:path w="6549" h="3425">
                <a:moveTo>
                  <a:pt x="8483" y="16818"/>
                </a:moveTo>
                <a:cubicBezTo>
                  <a:pt x="8483" y="16663"/>
                  <a:pt x="8389" y="16893"/>
                  <a:pt x="8334" y="16966"/>
                </a:cubicBezTo>
                <a:cubicBezTo>
                  <a:pt x="8207" y="17136"/>
                  <a:pt x="8183" y="17177"/>
                  <a:pt x="8086" y="17264"/>
                </a:cubicBezTo>
                <a:cubicBezTo>
                  <a:pt x="8144" y="17092"/>
                  <a:pt x="8285" y="16920"/>
                  <a:pt x="8434" y="16793"/>
                </a:cubicBezTo>
                <a:cubicBezTo>
                  <a:pt x="8537" y="16705"/>
                  <a:pt x="8606" y="16782"/>
                  <a:pt x="8682" y="16867"/>
                </a:cubicBezTo>
                <a:cubicBezTo>
                  <a:pt x="8781" y="16978"/>
                  <a:pt x="8803" y="17100"/>
                  <a:pt x="8880" y="17214"/>
                </a:cubicBezTo>
              </a:path>
              <a:path w="6549" h="3425">
                <a:moveTo>
                  <a:pt x="7590" y="17413"/>
                </a:moveTo>
                <a:cubicBezTo>
                  <a:pt x="7637" y="17390"/>
                  <a:pt x="7869" y="17302"/>
                  <a:pt x="7838" y="17462"/>
                </a:cubicBezTo>
                <a:cubicBezTo>
                  <a:pt x="7792" y="17509"/>
                  <a:pt x="7778" y="17521"/>
                  <a:pt x="7764" y="17562"/>
                </a:cubicBezTo>
                <a:cubicBezTo>
                  <a:pt x="7825" y="17571"/>
                  <a:pt x="7966" y="17603"/>
                  <a:pt x="7888" y="17711"/>
                </a:cubicBezTo>
                <a:cubicBezTo>
                  <a:pt x="7821" y="17803"/>
                  <a:pt x="7726" y="17772"/>
                  <a:pt x="7640" y="17760"/>
                </a:cubicBezTo>
                <a:cubicBezTo>
                  <a:pt x="7560" y="17760"/>
                  <a:pt x="7565" y="17739"/>
                  <a:pt x="7689" y="17661"/>
                </a:cubicBezTo>
              </a:path>
              <a:path w="6549" h="3425">
                <a:moveTo>
                  <a:pt x="8930" y="17363"/>
                </a:moveTo>
                <a:cubicBezTo>
                  <a:pt x="8971" y="17363"/>
                  <a:pt x="9241" y="17332"/>
                  <a:pt x="9178" y="17438"/>
                </a:cubicBezTo>
                <a:cubicBezTo>
                  <a:pt x="9104" y="17511"/>
                  <a:pt x="9080" y="17536"/>
                  <a:pt x="9004" y="17537"/>
                </a:cubicBezTo>
                <a:cubicBezTo>
                  <a:pt x="8996" y="17537"/>
                  <a:pt x="8987" y="17537"/>
                  <a:pt x="8979" y="17537"/>
                </a:cubicBezTo>
                <a:cubicBezTo>
                  <a:pt x="9001" y="17539"/>
                  <a:pt x="9260" y="17541"/>
                  <a:pt x="9203" y="17636"/>
                </a:cubicBezTo>
                <a:cubicBezTo>
                  <a:pt x="9129" y="17761"/>
                  <a:pt x="9004" y="17760"/>
                  <a:pt x="8880" y="17760"/>
                </a:cubicBezTo>
              </a:path>
              <a:path w="6549" h="3425">
                <a:moveTo>
                  <a:pt x="8756" y="17909"/>
                </a:moveTo>
                <a:cubicBezTo>
                  <a:pt x="8843" y="18070"/>
                  <a:pt x="8966" y="18219"/>
                  <a:pt x="9178" y="18132"/>
                </a:cubicBezTo>
                <a:cubicBezTo>
                  <a:pt x="9442" y="18024"/>
                  <a:pt x="9597" y="17682"/>
                  <a:pt x="9500" y="17413"/>
                </a:cubicBezTo>
                <a:cubicBezTo>
                  <a:pt x="9401" y="17140"/>
                  <a:pt x="8942" y="17173"/>
                  <a:pt x="8731" y="17239"/>
                </a:cubicBezTo>
                <a:cubicBezTo>
                  <a:pt x="8426" y="17334"/>
                  <a:pt x="8494" y="17794"/>
                  <a:pt x="8632" y="18008"/>
                </a:cubicBezTo>
                <a:cubicBezTo>
                  <a:pt x="8763" y="18117"/>
                  <a:pt x="8789" y="18158"/>
                  <a:pt x="8905" y="18132"/>
                </a:cubicBezTo>
              </a:path>
              <a:path w="6549" h="3425">
                <a:moveTo>
                  <a:pt x="7516" y="18058"/>
                </a:moveTo>
                <a:cubicBezTo>
                  <a:pt x="7752" y="18189"/>
                  <a:pt x="7917" y="18161"/>
                  <a:pt x="8111" y="17934"/>
                </a:cubicBezTo>
                <a:cubicBezTo>
                  <a:pt x="8306" y="17706"/>
                  <a:pt x="8265" y="17376"/>
                  <a:pt x="8037" y="17190"/>
                </a:cubicBezTo>
                <a:cubicBezTo>
                  <a:pt x="7824" y="17016"/>
                  <a:pt x="7286" y="17007"/>
                  <a:pt x="7169" y="17314"/>
                </a:cubicBezTo>
                <a:cubicBezTo>
                  <a:pt x="7008" y="17735"/>
                  <a:pt x="7269" y="18026"/>
                  <a:pt x="7590" y="18182"/>
                </a:cubicBezTo>
              </a:path>
              <a:path w="6549" h="3425">
                <a:moveTo>
                  <a:pt x="10195" y="16619"/>
                </a:moveTo>
                <a:cubicBezTo>
                  <a:pt x="10235" y="16735"/>
                  <a:pt x="10260" y="16821"/>
                  <a:pt x="10269" y="16942"/>
                </a:cubicBezTo>
                <a:cubicBezTo>
                  <a:pt x="10233" y="16774"/>
                  <a:pt x="10220" y="16643"/>
                  <a:pt x="10220" y="16470"/>
                </a:cubicBezTo>
                <a:cubicBezTo>
                  <a:pt x="10377" y="16484"/>
                  <a:pt x="10574" y="16611"/>
                  <a:pt x="10765" y="16644"/>
                </a:cubicBezTo>
                <a:cubicBezTo>
                  <a:pt x="10907" y="16664"/>
                  <a:pt x="10934" y="16683"/>
                  <a:pt x="11013" y="16644"/>
                </a:cubicBezTo>
              </a:path>
              <a:path w="6549" h="3425">
                <a:moveTo>
                  <a:pt x="10393" y="17264"/>
                </a:moveTo>
                <a:cubicBezTo>
                  <a:pt x="10496" y="17161"/>
                  <a:pt x="10493" y="17210"/>
                  <a:pt x="10616" y="17239"/>
                </a:cubicBezTo>
                <a:cubicBezTo>
                  <a:pt x="10660" y="17413"/>
                  <a:pt x="10596" y="17563"/>
                  <a:pt x="10368" y="17587"/>
                </a:cubicBezTo>
                <a:cubicBezTo>
                  <a:pt x="10327" y="17579"/>
                  <a:pt x="10285" y="17570"/>
                  <a:pt x="10244" y="17562"/>
                </a:cubicBezTo>
                <a:cubicBezTo>
                  <a:pt x="10306" y="17376"/>
                  <a:pt x="10392" y="17401"/>
                  <a:pt x="10567" y="17462"/>
                </a:cubicBezTo>
              </a:path>
              <a:path w="6549" h="3425">
                <a:moveTo>
                  <a:pt x="11435" y="16644"/>
                </a:moveTo>
                <a:cubicBezTo>
                  <a:pt x="11451" y="16770"/>
                  <a:pt x="11544" y="16810"/>
                  <a:pt x="11658" y="16718"/>
                </a:cubicBezTo>
                <a:cubicBezTo>
                  <a:pt x="11683" y="16685"/>
                  <a:pt x="11708" y="16652"/>
                  <a:pt x="11733" y="16619"/>
                </a:cubicBezTo>
              </a:path>
              <a:path w="6549" h="3425">
                <a:moveTo>
                  <a:pt x="11658" y="16396"/>
                </a:moveTo>
                <a:cubicBezTo>
                  <a:pt x="11658" y="16603"/>
                  <a:pt x="11658" y="16809"/>
                  <a:pt x="11658" y="17016"/>
                </a:cubicBezTo>
              </a:path>
              <a:path w="6549" h="3425">
                <a:moveTo>
                  <a:pt x="9996" y="17735"/>
                </a:moveTo>
                <a:cubicBezTo>
                  <a:pt x="10232" y="17884"/>
                  <a:pt x="10454" y="17972"/>
                  <a:pt x="10716" y="17785"/>
                </a:cubicBezTo>
                <a:cubicBezTo>
                  <a:pt x="11007" y="17577"/>
                  <a:pt x="11009" y="17127"/>
                  <a:pt x="10666" y="16966"/>
                </a:cubicBezTo>
                <a:cubicBezTo>
                  <a:pt x="10210" y="16752"/>
                  <a:pt x="9776" y="17094"/>
                  <a:pt x="9699" y="17537"/>
                </a:cubicBezTo>
                <a:cubicBezTo>
                  <a:pt x="9630" y="17931"/>
                  <a:pt x="9825" y="17976"/>
                  <a:pt x="10096" y="18107"/>
                </a:cubicBezTo>
              </a:path>
              <a:path w="6549" h="3425">
                <a:moveTo>
                  <a:pt x="11807" y="17289"/>
                </a:moveTo>
                <a:cubicBezTo>
                  <a:pt x="11910" y="17340"/>
                  <a:pt x="11845" y="17487"/>
                  <a:pt x="11832" y="17611"/>
                </a:cubicBezTo>
                <a:cubicBezTo>
                  <a:pt x="11830" y="17627"/>
                  <a:pt x="11832" y="17795"/>
                  <a:pt x="11832" y="17661"/>
                </a:cubicBezTo>
                <a:cubicBezTo>
                  <a:pt x="11832" y="17533"/>
                  <a:pt x="11759" y="17275"/>
                  <a:pt x="11906" y="17314"/>
                </a:cubicBezTo>
                <a:cubicBezTo>
                  <a:pt x="12113" y="17368"/>
                  <a:pt x="12256" y="17450"/>
                  <a:pt x="12477" y="17388"/>
                </a:cubicBezTo>
                <a:cubicBezTo>
                  <a:pt x="12493" y="17380"/>
                  <a:pt x="12510" y="17371"/>
                  <a:pt x="12526" y="17363"/>
                </a:cubicBezTo>
              </a:path>
              <a:path w="6549" h="3425">
                <a:moveTo>
                  <a:pt x="11658" y="17934"/>
                </a:moveTo>
                <a:cubicBezTo>
                  <a:pt x="11801" y="17909"/>
                  <a:pt x="11846" y="17911"/>
                  <a:pt x="11981" y="17959"/>
                </a:cubicBezTo>
                <a:cubicBezTo>
                  <a:pt x="11943" y="18195"/>
                  <a:pt x="11865" y="18215"/>
                  <a:pt x="11633" y="18281"/>
                </a:cubicBezTo>
                <a:cubicBezTo>
                  <a:pt x="11693" y="18119"/>
                  <a:pt x="11808" y="18138"/>
                  <a:pt x="11981" y="18157"/>
                </a:cubicBezTo>
              </a:path>
              <a:path w="6549" h="3425">
                <a:moveTo>
                  <a:pt x="12948" y="17413"/>
                </a:moveTo>
                <a:cubicBezTo>
                  <a:pt x="13072" y="17375"/>
                  <a:pt x="13268" y="17432"/>
                  <a:pt x="13196" y="17636"/>
                </a:cubicBezTo>
                <a:cubicBezTo>
                  <a:pt x="13149" y="17772"/>
                  <a:pt x="12993" y="17722"/>
                  <a:pt x="12898" y="17711"/>
                </a:cubicBezTo>
                <a:cubicBezTo>
                  <a:pt x="13046" y="17676"/>
                  <a:pt x="13095" y="17671"/>
                  <a:pt x="13246" y="17711"/>
                </a:cubicBezTo>
              </a:path>
              <a:path w="6549" h="3425">
                <a:moveTo>
                  <a:pt x="12948" y="17983"/>
                </a:moveTo>
                <a:cubicBezTo>
                  <a:pt x="13216" y="17951"/>
                  <a:pt x="13644" y="17895"/>
                  <a:pt x="13692" y="17537"/>
                </a:cubicBezTo>
                <a:cubicBezTo>
                  <a:pt x="13746" y="17138"/>
                  <a:pt x="13250" y="16974"/>
                  <a:pt x="12973" y="17190"/>
                </a:cubicBezTo>
                <a:cubicBezTo>
                  <a:pt x="12570" y="17505"/>
                  <a:pt x="12693" y="17832"/>
                  <a:pt x="13072" y="17959"/>
                </a:cubicBezTo>
              </a:path>
              <a:path w="6549" h="3425">
                <a:moveTo>
                  <a:pt x="11410" y="18628"/>
                </a:moveTo>
                <a:cubicBezTo>
                  <a:pt x="11652" y="18715"/>
                  <a:pt x="11809" y="18681"/>
                  <a:pt x="12055" y="18554"/>
                </a:cubicBezTo>
                <a:cubicBezTo>
                  <a:pt x="12311" y="18421"/>
                  <a:pt x="12337" y="18353"/>
                  <a:pt x="12378" y="18107"/>
                </a:cubicBezTo>
                <a:cubicBezTo>
                  <a:pt x="12044" y="17857"/>
                  <a:pt x="11796" y="17916"/>
                  <a:pt x="11385" y="17983"/>
                </a:cubicBezTo>
                <a:cubicBezTo>
                  <a:pt x="11344" y="17991"/>
                  <a:pt x="11302" y="18000"/>
                  <a:pt x="11261" y="18008"/>
                </a:cubicBezTo>
                <a:cubicBezTo>
                  <a:pt x="11305" y="18213"/>
                  <a:pt x="11287" y="18466"/>
                  <a:pt x="11385" y="18653"/>
                </a:cubicBezTo>
                <a:cubicBezTo>
                  <a:pt x="11410" y="18678"/>
                  <a:pt x="11435" y="18703"/>
                  <a:pt x="11460" y="187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57880" y="5072040"/>
            <a:ext cx="1322280" cy="598680"/>
          </a:xfrm>
          <a:custGeom>
            <a:avLst/>
            <a:gdLst/>
            <a:ahLst/>
            <a:rect l="l" t="t" r="r" b="b"/>
            <a:pathLst>
              <a:path w="3672" h="1663">
                <a:moveTo>
                  <a:pt x="15131" y="15081"/>
                </a:moveTo>
                <a:cubicBezTo>
                  <a:pt x="15303" y="15062"/>
                  <a:pt x="15577" y="15029"/>
                  <a:pt x="15553" y="15304"/>
                </a:cubicBezTo>
                <a:cubicBezTo>
                  <a:pt x="15522" y="15653"/>
                  <a:pt x="15137" y="15755"/>
                  <a:pt x="14883" y="15701"/>
                </a:cubicBezTo>
                <a:cubicBezTo>
                  <a:pt x="15139" y="15537"/>
                  <a:pt x="15279" y="15442"/>
                  <a:pt x="15553" y="15602"/>
                </a:cubicBezTo>
              </a:path>
              <a:path w="3672" h="1663">
                <a:moveTo>
                  <a:pt x="15801" y="14560"/>
                </a:moveTo>
                <a:cubicBezTo>
                  <a:pt x="15882" y="14539"/>
                  <a:pt x="16296" y="14477"/>
                  <a:pt x="16024" y="14684"/>
                </a:cubicBezTo>
                <a:cubicBezTo>
                  <a:pt x="15930" y="14722"/>
                  <a:pt x="15912" y="14715"/>
                  <a:pt x="15875" y="14759"/>
                </a:cubicBezTo>
                <a:cubicBezTo>
                  <a:pt x="16046" y="14748"/>
                  <a:pt x="16064" y="14766"/>
                  <a:pt x="16173" y="14883"/>
                </a:cubicBezTo>
                <a:cubicBezTo>
                  <a:pt x="16004" y="15062"/>
                  <a:pt x="15977" y="15056"/>
                  <a:pt x="15726" y="15056"/>
                </a:cubicBezTo>
              </a:path>
              <a:path w="3672" h="1663">
                <a:moveTo>
                  <a:pt x="16570" y="14808"/>
                </a:moveTo>
                <a:cubicBezTo>
                  <a:pt x="16659" y="15012"/>
                  <a:pt x="16805" y="15143"/>
                  <a:pt x="16966" y="15304"/>
                </a:cubicBezTo>
              </a:path>
              <a:path w="3672" h="1663">
                <a:moveTo>
                  <a:pt x="16867" y="14734"/>
                </a:moveTo>
                <a:cubicBezTo>
                  <a:pt x="16822" y="14961"/>
                  <a:pt x="16729" y="15151"/>
                  <a:pt x="16619" y="15354"/>
                </a:cubicBezTo>
              </a:path>
              <a:path w="3672" h="1663">
                <a:moveTo>
                  <a:pt x="17388" y="14635"/>
                </a:moveTo>
                <a:cubicBezTo>
                  <a:pt x="17477" y="14595"/>
                  <a:pt x="17767" y="14524"/>
                  <a:pt x="17735" y="14734"/>
                </a:cubicBezTo>
                <a:cubicBezTo>
                  <a:pt x="17657" y="14864"/>
                  <a:pt x="17626" y="14909"/>
                  <a:pt x="17512" y="14932"/>
                </a:cubicBezTo>
                <a:cubicBezTo>
                  <a:pt x="17479" y="14940"/>
                  <a:pt x="17446" y="14949"/>
                  <a:pt x="17413" y="14957"/>
                </a:cubicBezTo>
                <a:cubicBezTo>
                  <a:pt x="17519" y="14834"/>
                  <a:pt x="17792" y="14861"/>
                  <a:pt x="17859" y="15081"/>
                </a:cubicBezTo>
                <a:cubicBezTo>
                  <a:pt x="17938" y="15343"/>
                  <a:pt x="17591" y="15312"/>
                  <a:pt x="17462" y="15329"/>
                </a:cubicBezTo>
              </a:path>
              <a:path w="3672" h="1663">
                <a:moveTo>
                  <a:pt x="18107" y="14089"/>
                </a:moveTo>
                <a:cubicBezTo>
                  <a:pt x="18282" y="14169"/>
                  <a:pt x="18305" y="14165"/>
                  <a:pt x="18380" y="14337"/>
                </a:cubicBezTo>
                <a:cubicBezTo>
                  <a:pt x="18206" y="14420"/>
                  <a:pt x="18091" y="14484"/>
                  <a:pt x="17934" y="14362"/>
                </a:cubicBezTo>
                <a:cubicBezTo>
                  <a:pt x="18157" y="14342"/>
                  <a:pt x="18289" y="14365"/>
                  <a:pt x="18479" y="14486"/>
                </a:cubicBezTo>
                <a:cubicBezTo>
                  <a:pt x="18504" y="14503"/>
                  <a:pt x="18529" y="14519"/>
                  <a:pt x="18554" y="145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99ff"/>
                </a:solidFill>
                <a:latin typeface="Arial"/>
              </a:rPr>
              <a:t>HOMEWORK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99ff"/>
                </a:solidFill>
                <a:latin typeface="Arial"/>
              </a:rPr>
              <a:t>Workshee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99ff"/>
                </a:solidFill>
                <a:latin typeface="Arial"/>
              </a:rPr>
              <a:t>Extension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assZon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Animated 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(Chapter 8 – Finding Equivalent Numb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</a:t>
            </a:r>
            <a:r>
              <a:rPr b="0" lang="en-US" sz="36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76520" y="3962520"/>
            <a:ext cx="608472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Equivalent Forms - Day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(Decimals to fractions &amp; percen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8660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0010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rite fractions as decimals and percents, and vice ver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as a decim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write a decimal as a fraction read it aloud and write it as it soun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  .63  as a f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.9 as a f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2.04 as a f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00400" y="1523880"/>
          <a:ext cx="371520" cy="9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3880"/>
                    <a:ext cx="37152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600200" y="1143000"/>
                <a:ext cx="5079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062680" y="3776760"/>
            <a:ext cx="992160" cy="679320"/>
          </a:xfrm>
          <a:custGeom>
            <a:avLst/>
            <a:gdLst/>
            <a:ahLst/>
            <a:rect l="l" t="t" r="r" b="b"/>
            <a:pathLst>
              <a:path w="2755" h="1887">
                <a:moveTo>
                  <a:pt x="16272" y="10616"/>
                </a:moveTo>
                <a:lnTo>
                  <a:pt x="16272" y="10616"/>
                </a:lnTo>
              </a:path>
              <a:path w="2755" h="1887">
                <a:moveTo>
                  <a:pt x="14932" y="10517"/>
                </a:moveTo>
                <a:cubicBezTo>
                  <a:pt x="14899" y="10684"/>
                  <a:pt x="14771" y="10836"/>
                  <a:pt x="14759" y="11013"/>
                </a:cubicBezTo>
                <a:cubicBezTo>
                  <a:pt x="14741" y="11274"/>
                  <a:pt x="14942" y="11302"/>
                  <a:pt x="15131" y="11187"/>
                </a:cubicBezTo>
                <a:cubicBezTo>
                  <a:pt x="15221" y="11097"/>
                  <a:pt x="15251" y="11076"/>
                  <a:pt x="15255" y="10988"/>
                </a:cubicBezTo>
                <a:cubicBezTo>
                  <a:pt x="15198" y="10822"/>
                  <a:pt x="15093" y="11125"/>
                  <a:pt x="15081" y="11187"/>
                </a:cubicBezTo>
                <a:cubicBezTo>
                  <a:pt x="15081" y="11228"/>
                  <a:pt x="15081" y="11270"/>
                  <a:pt x="15081" y="11311"/>
                </a:cubicBezTo>
              </a:path>
              <a:path w="2755" h="1887">
                <a:moveTo>
                  <a:pt x="15478" y="10592"/>
                </a:moveTo>
                <a:cubicBezTo>
                  <a:pt x="15540" y="10521"/>
                  <a:pt x="15715" y="10411"/>
                  <a:pt x="15751" y="10592"/>
                </a:cubicBezTo>
                <a:cubicBezTo>
                  <a:pt x="15773" y="10704"/>
                  <a:pt x="15618" y="10772"/>
                  <a:pt x="15553" y="10815"/>
                </a:cubicBezTo>
                <a:cubicBezTo>
                  <a:pt x="15553" y="10807"/>
                  <a:pt x="15553" y="10798"/>
                  <a:pt x="15553" y="10790"/>
                </a:cubicBezTo>
                <a:cubicBezTo>
                  <a:pt x="15693" y="10735"/>
                  <a:pt x="15983" y="10646"/>
                  <a:pt x="15925" y="10939"/>
                </a:cubicBezTo>
                <a:cubicBezTo>
                  <a:pt x="15886" y="11137"/>
                  <a:pt x="15594" y="11130"/>
                  <a:pt x="15453" y="11137"/>
                </a:cubicBezTo>
              </a:path>
              <a:path w="2755" h="1887">
                <a:moveTo>
                  <a:pt x="14064" y="11460"/>
                </a:moveTo>
                <a:cubicBezTo>
                  <a:pt x="14221" y="11408"/>
                  <a:pt x="14372" y="11454"/>
                  <a:pt x="14536" y="11460"/>
                </a:cubicBezTo>
                <a:cubicBezTo>
                  <a:pt x="15033" y="11478"/>
                  <a:pt x="15528" y="11460"/>
                  <a:pt x="16024" y="11509"/>
                </a:cubicBezTo>
                <a:cubicBezTo>
                  <a:pt x="16292" y="11535"/>
                  <a:pt x="16549" y="11574"/>
                  <a:pt x="16818" y="11584"/>
                </a:cubicBezTo>
              </a:path>
              <a:path w="2755" h="1887">
                <a:moveTo>
                  <a:pt x="14536" y="11807"/>
                </a:moveTo>
                <a:cubicBezTo>
                  <a:pt x="14578" y="11965"/>
                  <a:pt x="14579" y="12177"/>
                  <a:pt x="14585" y="12353"/>
                </a:cubicBezTo>
                <a:cubicBezTo>
                  <a:pt x="14585" y="12361"/>
                  <a:pt x="14585" y="12370"/>
                  <a:pt x="14585" y="12378"/>
                </a:cubicBezTo>
              </a:path>
              <a:path w="2755" h="1887">
                <a:moveTo>
                  <a:pt x="15230" y="11782"/>
                </a:moveTo>
                <a:cubicBezTo>
                  <a:pt x="15054" y="11823"/>
                  <a:pt x="14982" y="11932"/>
                  <a:pt x="14982" y="12129"/>
                </a:cubicBezTo>
                <a:cubicBezTo>
                  <a:pt x="14990" y="12171"/>
                  <a:pt x="14999" y="12212"/>
                  <a:pt x="15007" y="12254"/>
                </a:cubicBezTo>
                <a:cubicBezTo>
                  <a:pt x="15150" y="12301"/>
                  <a:pt x="15396" y="12200"/>
                  <a:pt x="15453" y="12005"/>
                </a:cubicBezTo>
                <a:cubicBezTo>
                  <a:pt x="15508" y="11818"/>
                  <a:pt x="15269" y="11771"/>
                  <a:pt x="15156" y="11757"/>
                </a:cubicBezTo>
              </a:path>
              <a:path w="2755" h="1887">
                <a:moveTo>
                  <a:pt x="15900" y="11733"/>
                </a:moveTo>
                <a:cubicBezTo>
                  <a:pt x="15736" y="11755"/>
                  <a:pt x="15671" y="11797"/>
                  <a:pt x="15652" y="11981"/>
                </a:cubicBezTo>
                <a:cubicBezTo>
                  <a:pt x="15652" y="12128"/>
                  <a:pt x="15652" y="12177"/>
                  <a:pt x="15726" y="12254"/>
                </a:cubicBezTo>
                <a:cubicBezTo>
                  <a:pt x="15922" y="12253"/>
                  <a:pt x="16194" y="12240"/>
                  <a:pt x="16173" y="11956"/>
                </a:cubicBezTo>
                <a:cubicBezTo>
                  <a:pt x="16158" y="11747"/>
                  <a:pt x="15874" y="11811"/>
                  <a:pt x="15751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07000" y="1116000"/>
            <a:ext cx="957240" cy="857160"/>
          </a:xfrm>
          <a:custGeom>
            <a:avLst/>
            <a:gdLst/>
            <a:ahLst/>
            <a:rect l="l" t="t" r="r" b="b"/>
            <a:pathLst>
              <a:path w="2655" h="2382">
                <a:moveTo>
                  <a:pt x="16073" y="3621"/>
                </a:moveTo>
                <a:cubicBezTo>
                  <a:pt x="16163" y="3590"/>
                  <a:pt x="16459" y="3500"/>
                  <a:pt x="16346" y="3721"/>
                </a:cubicBezTo>
                <a:cubicBezTo>
                  <a:pt x="16313" y="3762"/>
                  <a:pt x="16280" y="3804"/>
                  <a:pt x="16247" y="3845"/>
                </a:cubicBezTo>
                <a:cubicBezTo>
                  <a:pt x="16214" y="3861"/>
                  <a:pt x="16181" y="3878"/>
                  <a:pt x="16148" y="3894"/>
                </a:cubicBezTo>
                <a:cubicBezTo>
                  <a:pt x="16413" y="3852"/>
                  <a:pt x="16654" y="3939"/>
                  <a:pt x="16321" y="4192"/>
                </a:cubicBezTo>
                <a:cubicBezTo>
                  <a:pt x="16137" y="4284"/>
                  <a:pt x="16087" y="4317"/>
                  <a:pt x="15949" y="4291"/>
                </a:cubicBezTo>
              </a:path>
              <a:path w="2655" h="2382">
                <a:moveTo>
                  <a:pt x="15776" y="4440"/>
                </a:moveTo>
                <a:cubicBezTo>
                  <a:pt x="16140" y="4399"/>
                  <a:pt x="16504" y="4311"/>
                  <a:pt x="16867" y="4341"/>
                </a:cubicBezTo>
              </a:path>
              <a:path w="2655" h="2382">
                <a:moveTo>
                  <a:pt x="15850" y="4887"/>
                </a:moveTo>
                <a:cubicBezTo>
                  <a:pt x="16006" y="4809"/>
                  <a:pt x="16027" y="4847"/>
                  <a:pt x="16197" y="4911"/>
                </a:cubicBezTo>
                <a:cubicBezTo>
                  <a:pt x="16162" y="5160"/>
                  <a:pt x="16027" y="5528"/>
                  <a:pt x="15677" y="5482"/>
                </a:cubicBezTo>
                <a:cubicBezTo>
                  <a:pt x="15644" y="5449"/>
                  <a:pt x="15610" y="5416"/>
                  <a:pt x="15577" y="5383"/>
                </a:cubicBezTo>
                <a:cubicBezTo>
                  <a:pt x="15740" y="5205"/>
                  <a:pt x="15888" y="5003"/>
                  <a:pt x="16049" y="5308"/>
                </a:cubicBezTo>
                <a:cubicBezTo>
                  <a:pt x="16057" y="5333"/>
                  <a:pt x="16065" y="5358"/>
                  <a:pt x="16073" y="5383"/>
                </a:cubicBezTo>
              </a:path>
              <a:path w="2655" h="2382">
                <a:moveTo>
                  <a:pt x="16594" y="4663"/>
                </a:moveTo>
                <a:cubicBezTo>
                  <a:pt x="16482" y="4763"/>
                  <a:pt x="16400" y="4723"/>
                  <a:pt x="16396" y="4911"/>
                </a:cubicBezTo>
                <a:cubicBezTo>
                  <a:pt x="16391" y="5155"/>
                  <a:pt x="16605" y="4996"/>
                  <a:pt x="16718" y="5135"/>
                </a:cubicBezTo>
                <a:cubicBezTo>
                  <a:pt x="16897" y="5354"/>
                  <a:pt x="16462" y="5299"/>
                  <a:pt x="16396" y="5283"/>
                </a:cubicBezTo>
              </a:path>
              <a:path w="2655" h="2382">
                <a:moveTo>
                  <a:pt x="16495" y="4787"/>
                </a:moveTo>
                <a:cubicBezTo>
                  <a:pt x="16632" y="4759"/>
                  <a:pt x="16685" y="4745"/>
                  <a:pt x="16768" y="4688"/>
                </a:cubicBezTo>
              </a:path>
              <a:path w="2655" h="2382">
                <a:moveTo>
                  <a:pt x="17115" y="4217"/>
                </a:moveTo>
                <a:cubicBezTo>
                  <a:pt x="17190" y="4343"/>
                  <a:pt x="17273" y="4457"/>
                  <a:pt x="17338" y="4589"/>
                </a:cubicBezTo>
              </a:path>
              <a:path w="2655" h="2382">
                <a:moveTo>
                  <a:pt x="17388" y="4167"/>
                </a:moveTo>
                <a:cubicBezTo>
                  <a:pt x="17298" y="4328"/>
                  <a:pt x="17223" y="4497"/>
                  <a:pt x="17140" y="4663"/>
                </a:cubicBezTo>
              </a:path>
              <a:path w="2655" h="2382">
                <a:moveTo>
                  <a:pt x="17587" y="4589"/>
                </a:moveTo>
                <a:cubicBezTo>
                  <a:pt x="17617" y="4671"/>
                  <a:pt x="17597" y="4704"/>
                  <a:pt x="17587" y="4787"/>
                </a:cubicBezTo>
                <a:cubicBezTo>
                  <a:pt x="17710" y="4778"/>
                  <a:pt x="17819" y="4759"/>
                  <a:pt x="17934" y="4713"/>
                </a:cubicBezTo>
              </a:path>
              <a:path w="2655" h="2382">
                <a:moveTo>
                  <a:pt x="17884" y="4564"/>
                </a:moveTo>
                <a:cubicBezTo>
                  <a:pt x="17841" y="4727"/>
                  <a:pt x="17817" y="4866"/>
                  <a:pt x="17810" y="5035"/>
                </a:cubicBezTo>
              </a:path>
              <a:path w="2655" h="2382">
                <a:moveTo>
                  <a:pt x="17587" y="4316"/>
                </a:moveTo>
                <a:cubicBezTo>
                  <a:pt x="17738" y="4341"/>
                  <a:pt x="17858" y="4330"/>
                  <a:pt x="18008" y="4316"/>
                </a:cubicBezTo>
              </a:path>
              <a:path w="2655" h="2382">
                <a:moveTo>
                  <a:pt x="17611" y="3746"/>
                </a:moveTo>
                <a:cubicBezTo>
                  <a:pt x="17611" y="3830"/>
                  <a:pt x="17545" y="4027"/>
                  <a:pt x="17661" y="4043"/>
                </a:cubicBezTo>
                <a:cubicBezTo>
                  <a:pt x="17752" y="4020"/>
                  <a:pt x="17778" y="4014"/>
                  <a:pt x="17835" y="3994"/>
                </a:cubicBezTo>
              </a:path>
              <a:path w="2655" h="2382">
                <a:moveTo>
                  <a:pt x="17909" y="3696"/>
                </a:moveTo>
                <a:cubicBezTo>
                  <a:pt x="17869" y="3903"/>
                  <a:pt x="17859" y="4080"/>
                  <a:pt x="17859" y="4291"/>
                </a:cubicBezTo>
              </a:path>
              <a:path w="2655" h="2382">
                <a:moveTo>
                  <a:pt x="17314" y="3671"/>
                </a:moveTo>
                <a:cubicBezTo>
                  <a:pt x="17376" y="3829"/>
                  <a:pt x="17415" y="4022"/>
                  <a:pt x="17413" y="4192"/>
                </a:cubicBezTo>
                <a:cubicBezTo>
                  <a:pt x="17409" y="4492"/>
                  <a:pt x="17355" y="4815"/>
                  <a:pt x="17314" y="5110"/>
                </a:cubicBezTo>
                <a:cubicBezTo>
                  <a:pt x="17293" y="5194"/>
                  <a:pt x="17278" y="5213"/>
                  <a:pt x="17314" y="5259"/>
                </a:cubicBezTo>
                <a:cubicBezTo>
                  <a:pt x="17520" y="5252"/>
                  <a:pt x="17727" y="5221"/>
                  <a:pt x="17934" y="5234"/>
                </a:cubicBezTo>
                <a:cubicBezTo>
                  <a:pt x="18017" y="5239"/>
                  <a:pt x="18111" y="5266"/>
                  <a:pt x="18182" y="5283"/>
                </a:cubicBezTo>
                <a:cubicBezTo>
                  <a:pt x="18153" y="4985"/>
                  <a:pt x="18155" y="4738"/>
                  <a:pt x="18182" y="4440"/>
                </a:cubicBezTo>
                <a:cubicBezTo>
                  <a:pt x="18210" y="4125"/>
                  <a:pt x="18247" y="3761"/>
                  <a:pt x="18231" y="3448"/>
                </a:cubicBezTo>
                <a:cubicBezTo>
                  <a:pt x="18228" y="3389"/>
                  <a:pt x="18209" y="3330"/>
                  <a:pt x="18182" y="3274"/>
                </a:cubicBezTo>
                <a:cubicBezTo>
                  <a:pt x="18141" y="3188"/>
                  <a:pt x="18118" y="3164"/>
                  <a:pt x="18033" y="3125"/>
                </a:cubicBezTo>
                <a:cubicBezTo>
                  <a:pt x="17869" y="3049"/>
                  <a:pt x="17719" y="3137"/>
                  <a:pt x="17587" y="3225"/>
                </a:cubicBezTo>
                <a:cubicBezTo>
                  <a:pt x="17369" y="3371"/>
                  <a:pt x="17297" y="3490"/>
                  <a:pt x="17190" y="3721"/>
                </a:cubicBezTo>
                <a:cubicBezTo>
                  <a:pt x="17153" y="3801"/>
                  <a:pt x="17116" y="3884"/>
                  <a:pt x="17090" y="3969"/>
                </a:cubicBezTo>
                <a:cubicBezTo>
                  <a:pt x="17068" y="4060"/>
                  <a:pt x="17062" y="4086"/>
                  <a:pt x="17041" y="4142"/>
                </a:cubicBezTo>
                <a:cubicBezTo>
                  <a:pt x="17128" y="4096"/>
                  <a:pt x="17241" y="4042"/>
                  <a:pt x="17338" y="39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1204920"/>
            <a:ext cx="1812960" cy="617400"/>
          </a:xfrm>
          <a:custGeom>
            <a:avLst/>
            <a:gdLst/>
            <a:ahLst/>
            <a:rect l="l" t="t" r="r" b="b"/>
            <a:pathLst>
              <a:path w="5036" h="1712">
                <a:moveTo>
                  <a:pt x="19050" y="4217"/>
                </a:moveTo>
                <a:cubicBezTo>
                  <a:pt x="19158" y="4227"/>
                  <a:pt x="19265" y="4248"/>
                  <a:pt x="19372" y="4266"/>
                </a:cubicBezTo>
              </a:path>
              <a:path w="5036" h="1712">
                <a:moveTo>
                  <a:pt x="19100" y="4465"/>
                </a:moveTo>
                <a:cubicBezTo>
                  <a:pt x="19232" y="4438"/>
                  <a:pt x="19281" y="4429"/>
                  <a:pt x="19372" y="4415"/>
                </a:cubicBezTo>
              </a:path>
              <a:path w="5036" h="1712">
                <a:moveTo>
                  <a:pt x="20017" y="4440"/>
                </a:moveTo>
                <a:cubicBezTo>
                  <a:pt x="20017" y="4641"/>
                  <a:pt x="20024" y="4835"/>
                  <a:pt x="20042" y="5035"/>
                </a:cubicBezTo>
              </a:path>
              <a:path w="5036" h="1712">
                <a:moveTo>
                  <a:pt x="20563" y="4440"/>
                </a:moveTo>
                <a:cubicBezTo>
                  <a:pt x="20386" y="4675"/>
                  <a:pt x="20357" y="4788"/>
                  <a:pt x="20464" y="5060"/>
                </a:cubicBezTo>
                <a:cubicBezTo>
                  <a:pt x="20658" y="4995"/>
                  <a:pt x="20948" y="4862"/>
                  <a:pt x="20811" y="4589"/>
                </a:cubicBezTo>
                <a:cubicBezTo>
                  <a:pt x="20676" y="4482"/>
                  <a:pt x="20622" y="4450"/>
                  <a:pt x="20489" y="4514"/>
                </a:cubicBezTo>
              </a:path>
              <a:path w="5036" h="1712">
                <a:moveTo>
                  <a:pt x="21109" y="4390"/>
                </a:moveTo>
                <a:cubicBezTo>
                  <a:pt x="20976" y="4677"/>
                  <a:pt x="20906" y="4769"/>
                  <a:pt x="21109" y="5011"/>
                </a:cubicBezTo>
                <a:cubicBezTo>
                  <a:pt x="21275" y="4962"/>
                  <a:pt x="21695" y="4761"/>
                  <a:pt x="21357" y="4539"/>
                </a:cubicBezTo>
                <a:cubicBezTo>
                  <a:pt x="21274" y="4514"/>
                  <a:pt x="21192" y="4490"/>
                  <a:pt x="21109" y="4465"/>
                </a:cubicBezTo>
              </a:path>
              <a:path w="5036" h="1712">
                <a:moveTo>
                  <a:pt x="19819" y="4217"/>
                </a:moveTo>
                <a:cubicBezTo>
                  <a:pt x="20278" y="4217"/>
                  <a:pt x="20705" y="4155"/>
                  <a:pt x="21158" y="4093"/>
                </a:cubicBezTo>
                <a:cubicBezTo>
                  <a:pt x="21241" y="4085"/>
                  <a:pt x="21323" y="4076"/>
                  <a:pt x="21406" y="4068"/>
                </a:cubicBezTo>
              </a:path>
              <a:path w="5036" h="1712">
                <a:moveTo>
                  <a:pt x="20464" y="3448"/>
                </a:moveTo>
                <a:cubicBezTo>
                  <a:pt x="20445" y="3636"/>
                  <a:pt x="20441" y="3813"/>
                  <a:pt x="20389" y="3994"/>
                </a:cubicBezTo>
              </a:path>
              <a:path w="5036" h="1712">
                <a:moveTo>
                  <a:pt x="20811" y="3398"/>
                </a:moveTo>
                <a:cubicBezTo>
                  <a:pt x="20846" y="3363"/>
                  <a:pt x="20868" y="3350"/>
                  <a:pt x="20910" y="3349"/>
                </a:cubicBezTo>
                <a:cubicBezTo>
                  <a:pt x="21064" y="3501"/>
                  <a:pt x="21062" y="3655"/>
                  <a:pt x="20886" y="3820"/>
                </a:cubicBezTo>
                <a:cubicBezTo>
                  <a:pt x="20790" y="3868"/>
                  <a:pt x="20761" y="3885"/>
                  <a:pt x="20687" y="3870"/>
                </a:cubicBezTo>
                <a:cubicBezTo>
                  <a:pt x="20655" y="3754"/>
                  <a:pt x="20660" y="3652"/>
                  <a:pt x="20836" y="3671"/>
                </a:cubicBezTo>
                <a:cubicBezTo>
                  <a:pt x="20999" y="3689"/>
                  <a:pt x="21093" y="3800"/>
                  <a:pt x="21134" y="3944"/>
                </a:cubicBezTo>
              </a:path>
              <a:path w="5036" h="1712">
                <a:moveTo>
                  <a:pt x="21903" y="4093"/>
                </a:moveTo>
                <a:cubicBezTo>
                  <a:pt x="22020" y="4104"/>
                  <a:pt x="22136" y="4117"/>
                  <a:pt x="22250" y="4142"/>
                </a:cubicBezTo>
              </a:path>
              <a:path w="5036" h="1712">
                <a:moveTo>
                  <a:pt x="21952" y="4366"/>
                </a:moveTo>
                <a:cubicBezTo>
                  <a:pt x="22066" y="4366"/>
                  <a:pt x="22164" y="4361"/>
                  <a:pt x="22275" y="4341"/>
                </a:cubicBezTo>
              </a:path>
              <a:path w="5036" h="1712">
                <a:moveTo>
                  <a:pt x="22969" y="4440"/>
                </a:moveTo>
                <a:cubicBezTo>
                  <a:pt x="22838" y="4460"/>
                  <a:pt x="22740" y="4661"/>
                  <a:pt x="22920" y="4589"/>
                </a:cubicBezTo>
                <a:cubicBezTo>
                  <a:pt x="23092" y="4521"/>
                  <a:pt x="22838" y="4481"/>
                  <a:pt x="22796" y="4490"/>
                </a:cubicBezTo>
              </a:path>
              <a:path w="5036" h="1712">
                <a:moveTo>
                  <a:pt x="23242" y="3746"/>
                </a:moveTo>
                <a:cubicBezTo>
                  <a:pt x="23262" y="3943"/>
                  <a:pt x="23273" y="4144"/>
                  <a:pt x="23292" y="4341"/>
                </a:cubicBezTo>
                <a:cubicBezTo>
                  <a:pt x="23300" y="4382"/>
                  <a:pt x="23308" y="4424"/>
                  <a:pt x="23316" y="4465"/>
                </a:cubicBezTo>
              </a:path>
              <a:path w="5036" h="1712">
                <a:moveTo>
                  <a:pt x="23515" y="3894"/>
                </a:moveTo>
                <a:cubicBezTo>
                  <a:pt x="23606" y="3837"/>
                  <a:pt x="23624" y="3829"/>
                  <a:pt x="23738" y="3795"/>
                </a:cubicBezTo>
                <a:cubicBezTo>
                  <a:pt x="23891" y="3984"/>
                  <a:pt x="23896" y="4211"/>
                  <a:pt x="23738" y="4440"/>
                </a:cubicBezTo>
                <a:cubicBezTo>
                  <a:pt x="23650" y="4568"/>
                  <a:pt x="23565" y="4510"/>
                  <a:pt x="23465" y="4465"/>
                </a:cubicBezTo>
                <a:cubicBezTo>
                  <a:pt x="23482" y="4274"/>
                  <a:pt x="23604" y="4306"/>
                  <a:pt x="23788" y="4341"/>
                </a:cubicBezTo>
                <a:cubicBezTo>
                  <a:pt x="23936" y="4369"/>
                  <a:pt x="23980" y="4399"/>
                  <a:pt x="24085" y="44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56240" y="2544840"/>
            <a:ext cx="1278000" cy="403200"/>
          </a:xfrm>
          <a:custGeom>
            <a:avLst/>
            <a:gdLst/>
            <a:ahLst/>
            <a:rect l="l" t="t" r="r" b="b"/>
            <a:pathLst>
              <a:path w="3548" h="1118">
                <a:moveTo>
                  <a:pt x="19769" y="7342"/>
                </a:moveTo>
                <a:cubicBezTo>
                  <a:pt x="19879" y="7218"/>
                  <a:pt x="19947" y="7231"/>
                  <a:pt x="20092" y="7293"/>
                </a:cubicBezTo>
                <a:cubicBezTo>
                  <a:pt x="20010" y="7441"/>
                  <a:pt x="19962" y="7498"/>
                  <a:pt x="19819" y="7590"/>
                </a:cubicBezTo>
                <a:cubicBezTo>
                  <a:pt x="19890" y="7544"/>
                  <a:pt x="20258" y="7456"/>
                  <a:pt x="20141" y="7689"/>
                </a:cubicBezTo>
                <a:cubicBezTo>
                  <a:pt x="20031" y="7910"/>
                  <a:pt x="19765" y="7872"/>
                  <a:pt x="19571" y="7888"/>
                </a:cubicBezTo>
              </a:path>
              <a:path w="3548" h="1118">
                <a:moveTo>
                  <a:pt x="19348" y="8186"/>
                </a:moveTo>
                <a:cubicBezTo>
                  <a:pt x="19490" y="7932"/>
                  <a:pt x="19366" y="7759"/>
                  <a:pt x="19273" y="7491"/>
                </a:cubicBezTo>
                <a:cubicBezTo>
                  <a:pt x="19231" y="7342"/>
                  <a:pt x="19221" y="7310"/>
                  <a:pt x="19199" y="7218"/>
                </a:cubicBezTo>
                <a:cubicBezTo>
                  <a:pt x="19403" y="7144"/>
                  <a:pt x="19604" y="7179"/>
                  <a:pt x="19819" y="7169"/>
                </a:cubicBezTo>
                <a:cubicBezTo>
                  <a:pt x="20357" y="7145"/>
                  <a:pt x="20893" y="7082"/>
                  <a:pt x="21431" y="7069"/>
                </a:cubicBezTo>
                <a:cubicBezTo>
                  <a:pt x="21448" y="7069"/>
                  <a:pt x="21464" y="7069"/>
                  <a:pt x="21481" y="7069"/>
                </a:cubicBezTo>
              </a:path>
              <a:path w="3548" h="1118">
                <a:moveTo>
                  <a:pt x="18157" y="7516"/>
                </a:moveTo>
                <a:cubicBezTo>
                  <a:pt x="18109" y="7540"/>
                  <a:pt x="18092" y="7550"/>
                  <a:pt x="18107" y="7491"/>
                </a:cubicBezTo>
                <a:cubicBezTo>
                  <a:pt x="18347" y="7427"/>
                  <a:pt x="18496" y="7523"/>
                  <a:pt x="18331" y="7813"/>
                </a:cubicBezTo>
                <a:cubicBezTo>
                  <a:pt x="18204" y="8036"/>
                  <a:pt x="18004" y="8133"/>
                  <a:pt x="17934" y="7888"/>
                </a:cubicBezTo>
                <a:cubicBezTo>
                  <a:pt x="18124" y="7850"/>
                  <a:pt x="18281" y="7841"/>
                  <a:pt x="18405" y="8012"/>
                </a:cubicBezTo>
                <a:cubicBezTo>
                  <a:pt x="18413" y="8037"/>
                  <a:pt x="18422" y="8061"/>
                  <a:pt x="18430" y="8086"/>
                </a:cubicBezTo>
              </a:path>
              <a:path w="3548" h="1118">
                <a:moveTo>
                  <a:pt x="18827" y="7417"/>
                </a:moveTo>
                <a:cubicBezTo>
                  <a:pt x="18695" y="7488"/>
                  <a:pt x="18678" y="7480"/>
                  <a:pt x="18703" y="7640"/>
                </a:cubicBezTo>
                <a:cubicBezTo>
                  <a:pt x="18801" y="7640"/>
                  <a:pt x="18990" y="7597"/>
                  <a:pt x="19000" y="7739"/>
                </a:cubicBezTo>
                <a:cubicBezTo>
                  <a:pt x="19013" y="7923"/>
                  <a:pt x="18842" y="7897"/>
                  <a:pt x="18728" y="7913"/>
                </a:cubicBezTo>
              </a:path>
              <a:path w="3548" h="1118">
                <a:moveTo>
                  <a:pt x="18678" y="7441"/>
                </a:moveTo>
                <a:cubicBezTo>
                  <a:pt x="18743" y="7398"/>
                  <a:pt x="18758" y="7387"/>
                  <a:pt x="18802" y="73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26200" y="2081160"/>
            <a:ext cx="776520" cy="1687680"/>
          </a:xfrm>
          <a:custGeom>
            <a:avLst/>
            <a:gdLst/>
            <a:ahLst/>
            <a:rect l="l" t="t" r="r" b="b"/>
            <a:pathLst>
              <a:path w="2159" h="4690">
                <a:moveTo>
                  <a:pt x="20365" y="7789"/>
                </a:moveTo>
                <a:cubicBezTo>
                  <a:pt x="20381" y="7772"/>
                  <a:pt x="20398" y="7756"/>
                  <a:pt x="20414" y="7739"/>
                </a:cubicBezTo>
              </a:path>
              <a:path w="2159" h="4690">
                <a:moveTo>
                  <a:pt x="20861" y="7317"/>
                </a:moveTo>
                <a:cubicBezTo>
                  <a:pt x="20716" y="7294"/>
                  <a:pt x="20617" y="7337"/>
                  <a:pt x="20613" y="7516"/>
                </a:cubicBezTo>
                <a:cubicBezTo>
                  <a:pt x="20609" y="7693"/>
                  <a:pt x="20669" y="7746"/>
                  <a:pt x="20786" y="7838"/>
                </a:cubicBezTo>
                <a:cubicBezTo>
                  <a:pt x="20931" y="7773"/>
                  <a:pt x="21214" y="7589"/>
                  <a:pt x="21059" y="7367"/>
                </a:cubicBezTo>
                <a:cubicBezTo>
                  <a:pt x="20948" y="7311"/>
                  <a:pt x="20902" y="7297"/>
                  <a:pt x="20811" y="7342"/>
                </a:cubicBezTo>
              </a:path>
              <a:path w="2159" h="4690">
                <a:moveTo>
                  <a:pt x="20489" y="6896"/>
                </a:moveTo>
                <a:cubicBezTo>
                  <a:pt x="20407" y="6919"/>
                  <a:pt x="20423" y="6928"/>
                  <a:pt x="20389" y="7020"/>
                </a:cubicBezTo>
                <a:cubicBezTo>
                  <a:pt x="20501" y="6919"/>
                  <a:pt x="20494" y="6827"/>
                  <a:pt x="20365" y="6921"/>
                </a:cubicBezTo>
              </a:path>
              <a:path w="2159" h="4690">
                <a:moveTo>
                  <a:pt x="20811" y="6276"/>
                </a:moveTo>
                <a:cubicBezTo>
                  <a:pt x="20811" y="6491"/>
                  <a:pt x="20835" y="6715"/>
                  <a:pt x="20811" y="6921"/>
                </a:cubicBezTo>
              </a:path>
              <a:path w="2159" h="4690">
                <a:moveTo>
                  <a:pt x="19968" y="8086"/>
                </a:moveTo>
                <a:cubicBezTo>
                  <a:pt x="20077" y="8067"/>
                  <a:pt x="20316" y="8096"/>
                  <a:pt x="20191" y="8285"/>
                </a:cubicBezTo>
                <a:cubicBezTo>
                  <a:pt x="20069" y="8382"/>
                  <a:pt x="20030" y="8415"/>
                  <a:pt x="19918" y="8409"/>
                </a:cubicBezTo>
                <a:cubicBezTo>
                  <a:pt x="19891" y="8275"/>
                  <a:pt x="20175" y="8324"/>
                  <a:pt x="20265" y="8359"/>
                </a:cubicBezTo>
                <a:cubicBezTo>
                  <a:pt x="20298" y="8384"/>
                  <a:pt x="20332" y="8409"/>
                  <a:pt x="20365" y="8434"/>
                </a:cubicBezTo>
              </a:path>
              <a:path w="2159" h="4690">
                <a:moveTo>
                  <a:pt x="20737" y="8037"/>
                </a:moveTo>
                <a:cubicBezTo>
                  <a:pt x="20688" y="8079"/>
                  <a:pt x="20674" y="8105"/>
                  <a:pt x="20638" y="8161"/>
                </a:cubicBezTo>
                <a:cubicBezTo>
                  <a:pt x="20718" y="8178"/>
                  <a:pt x="21004" y="8188"/>
                  <a:pt x="20861" y="8359"/>
                </a:cubicBezTo>
                <a:cubicBezTo>
                  <a:pt x="20828" y="8376"/>
                  <a:pt x="20795" y="8392"/>
                  <a:pt x="20762" y="8409"/>
                </a:cubicBezTo>
              </a:path>
              <a:path w="2159" h="4690">
                <a:moveTo>
                  <a:pt x="20613" y="8037"/>
                </a:moveTo>
                <a:cubicBezTo>
                  <a:pt x="20752" y="7990"/>
                  <a:pt x="20884" y="7976"/>
                  <a:pt x="21034" y="7962"/>
                </a:cubicBezTo>
              </a:path>
              <a:path w="2159" h="4690">
                <a:moveTo>
                  <a:pt x="19794" y="8682"/>
                </a:moveTo>
                <a:cubicBezTo>
                  <a:pt x="20190" y="8567"/>
                  <a:pt x="20573" y="8528"/>
                  <a:pt x="20985" y="8508"/>
                </a:cubicBezTo>
                <a:cubicBezTo>
                  <a:pt x="21035" y="8508"/>
                  <a:pt x="21084" y="8508"/>
                  <a:pt x="21134" y="8508"/>
                </a:cubicBezTo>
              </a:path>
              <a:path w="2159" h="4690">
                <a:moveTo>
                  <a:pt x="21109" y="8657"/>
                </a:moveTo>
                <a:cubicBezTo>
                  <a:pt x="21056" y="8660"/>
                  <a:pt x="20867" y="8651"/>
                  <a:pt x="20861" y="8706"/>
                </a:cubicBezTo>
                <a:cubicBezTo>
                  <a:pt x="20850" y="8805"/>
                  <a:pt x="20847" y="8885"/>
                  <a:pt x="20861" y="8979"/>
                </a:cubicBezTo>
                <a:cubicBezTo>
                  <a:pt x="21079" y="8846"/>
                  <a:pt x="21161" y="8821"/>
                  <a:pt x="21357" y="8979"/>
                </a:cubicBezTo>
                <a:cubicBezTo>
                  <a:pt x="21174" y="9196"/>
                  <a:pt x="21172" y="9170"/>
                  <a:pt x="20886" y="9178"/>
                </a:cubicBezTo>
              </a:path>
              <a:path w="2159" h="4690">
                <a:moveTo>
                  <a:pt x="21456" y="7169"/>
                </a:moveTo>
                <a:cubicBezTo>
                  <a:pt x="21256" y="7184"/>
                  <a:pt x="21084" y="7402"/>
                  <a:pt x="21233" y="7615"/>
                </a:cubicBezTo>
                <a:cubicBezTo>
                  <a:pt x="21451" y="7927"/>
                  <a:pt x="21664" y="7455"/>
                  <a:pt x="21580" y="7268"/>
                </a:cubicBezTo>
              </a:path>
              <a:path w="2159" h="4690">
                <a:moveTo>
                  <a:pt x="21530" y="7764"/>
                </a:moveTo>
                <a:cubicBezTo>
                  <a:pt x="21463" y="7971"/>
                  <a:pt x="21483" y="8216"/>
                  <a:pt x="21481" y="8434"/>
                </a:cubicBezTo>
                <a:cubicBezTo>
                  <a:pt x="21481" y="8508"/>
                  <a:pt x="21481" y="8583"/>
                  <a:pt x="21481" y="8657"/>
                </a:cubicBezTo>
              </a:path>
              <a:path w="2159" h="4690">
                <a:moveTo>
                  <a:pt x="21654" y="8979"/>
                </a:moveTo>
                <a:cubicBezTo>
                  <a:pt x="21583" y="8872"/>
                  <a:pt x="21538" y="8977"/>
                  <a:pt x="21506" y="9079"/>
                </a:cubicBezTo>
                <a:cubicBezTo>
                  <a:pt x="21482" y="9196"/>
                  <a:pt x="21469" y="9232"/>
                  <a:pt x="21555" y="9277"/>
                </a:cubicBezTo>
                <a:cubicBezTo>
                  <a:pt x="21740" y="9246"/>
                  <a:pt x="22014" y="9106"/>
                  <a:pt x="21754" y="8905"/>
                </a:cubicBezTo>
                <a:cubicBezTo>
                  <a:pt x="21620" y="8878"/>
                  <a:pt x="21569" y="8873"/>
                  <a:pt x="21481" y="8930"/>
                </a:cubicBezTo>
              </a:path>
              <a:path w="2159" h="4690">
                <a:moveTo>
                  <a:pt x="21332" y="6400"/>
                </a:moveTo>
                <a:cubicBezTo>
                  <a:pt x="21381" y="6303"/>
                  <a:pt x="21394" y="6270"/>
                  <a:pt x="21481" y="6276"/>
                </a:cubicBezTo>
                <a:cubicBezTo>
                  <a:pt x="21621" y="6501"/>
                  <a:pt x="21593" y="6707"/>
                  <a:pt x="21307" y="6821"/>
                </a:cubicBezTo>
                <a:cubicBezTo>
                  <a:pt x="21266" y="6821"/>
                  <a:pt x="21224" y="6821"/>
                  <a:pt x="21183" y="6821"/>
                </a:cubicBezTo>
                <a:cubicBezTo>
                  <a:pt x="21198" y="6628"/>
                  <a:pt x="21289" y="6550"/>
                  <a:pt x="21481" y="6697"/>
                </a:cubicBezTo>
                <a:cubicBezTo>
                  <a:pt x="21514" y="6738"/>
                  <a:pt x="21547" y="6780"/>
                  <a:pt x="21580" y="6821"/>
                </a:cubicBezTo>
              </a:path>
              <a:path w="2159" h="4690">
                <a:moveTo>
                  <a:pt x="21158" y="9351"/>
                </a:moveTo>
                <a:cubicBezTo>
                  <a:pt x="21107" y="9351"/>
                  <a:pt x="21014" y="9325"/>
                  <a:pt x="20985" y="9376"/>
                </a:cubicBezTo>
                <a:cubicBezTo>
                  <a:pt x="20942" y="9482"/>
                  <a:pt x="20926" y="9504"/>
                  <a:pt x="20935" y="9575"/>
                </a:cubicBezTo>
                <a:cubicBezTo>
                  <a:pt x="21046" y="9538"/>
                  <a:pt x="21120" y="9402"/>
                  <a:pt x="21258" y="9451"/>
                </a:cubicBezTo>
                <a:cubicBezTo>
                  <a:pt x="21524" y="9544"/>
                  <a:pt x="21125" y="9725"/>
                  <a:pt x="21059" y="9748"/>
                </a:cubicBezTo>
              </a:path>
              <a:path w="2159" h="4690">
                <a:moveTo>
                  <a:pt x="21530" y="9327"/>
                </a:moveTo>
                <a:cubicBezTo>
                  <a:pt x="21478" y="9535"/>
                  <a:pt x="21444" y="9537"/>
                  <a:pt x="21580" y="9674"/>
                </a:cubicBezTo>
                <a:cubicBezTo>
                  <a:pt x="21711" y="9602"/>
                  <a:pt x="21934" y="9309"/>
                  <a:pt x="21580" y="9351"/>
                </a:cubicBezTo>
                <a:cubicBezTo>
                  <a:pt x="21514" y="9376"/>
                  <a:pt x="21448" y="9401"/>
                  <a:pt x="21382" y="9426"/>
                </a:cubicBezTo>
              </a:path>
              <a:path w="2159" h="4690">
                <a:moveTo>
                  <a:pt x="20836" y="9922"/>
                </a:moveTo>
                <a:cubicBezTo>
                  <a:pt x="21061" y="9933"/>
                  <a:pt x="21680" y="9788"/>
                  <a:pt x="21853" y="9922"/>
                </a:cubicBezTo>
                <a:cubicBezTo>
                  <a:pt x="21845" y="9947"/>
                  <a:pt x="21836" y="9971"/>
                  <a:pt x="21828" y="9996"/>
                </a:cubicBezTo>
              </a:path>
              <a:path w="2159" h="4690">
                <a:moveTo>
                  <a:pt x="21779" y="10046"/>
                </a:moveTo>
                <a:cubicBezTo>
                  <a:pt x="21621" y="10179"/>
                  <a:pt x="21567" y="10262"/>
                  <a:pt x="21580" y="10468"/>
                </a:cubicBezTo>
                <a:cubicBezTo>
                  <a:pt x="21840" y="10381"/>
                  <a:pt x="22004" y="10315"/>
                  <a:pt x="21828" y="10096"/>
                </a:cubicBezTo>
              </a:path>
              <a:path w="2159" h="4690">
                <a:moveTo>
                  <a:pt x="19819" y="6821"/>
                </a:moveTo>
                <a:cubicBezTo>
                  <a:pt x="19925" y="6973"/>
                  <a:pt x="20036" y="7165"/>
                  <a:pt x="20216" y="7243"/>
                </a:cubicBezTo>
                <a:cubicBezTo>
                  <a:pt x="20465" y="7351"/>
                  <a:pt x="20859" y="7280"/>
                  <a:pt x="21109" y="7193"/>
                </a:cubicBezTo>
                <a:cubicBezTo>
                  <a:pt x="21353" y="7109"/>
                  <a:pt x="21670" y="6935"/>
                  <a:pt x="21828" y="6722"/>
                </a:cubicBezTo>
                <a:cubicBezTo>
                  <a:pt x="21973" y="6527"/>
                  <a:pt x="21946" y="6288"/>
                  <a:pt x="21803" y="6102"/>
                </a:cubicBezTo>
                <a:cubicBezTo>
                  <a:pt x="21582" y="5816"/>
                  <a:pt x="21220" y="5790"/>
                  <a:pt x="20886" y="5779"/>
                </a:cubicBezTo>
                <a:cubicBezTo>
                  <a:pt x="20637" y="5771"/>
                  <a:pt x="20430" y="5859"/>
                  <a:pt x="20241" y="6028"/>
                </a:cubicBezTo>
                <a:cubicBezTo>
                  <a:pt x="19961" y="6280"/>
                  <a:pt x="19903" y="6609"/>
                  <a:pt x="20067" y="6945"/>
                </a:cubicBezTo>
                <a:cubicBezTo>
                  <a:pt x="20213" y="7140"/>
                  <a:pt x="20259" y="7205"/>
                  <a:pt x="20439" y="72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20840" y="4170240"/>
            <a:ext cx="563400" cy="98640"/>
          </a:xfrm>
          <a:custGeom>
            <a:avLst/>
            <a:gdLst/>
            <a:ahLst/>
            <a:rect l="l" t="t" r="r" b="b"/>
            <a:pathLst>
              <a:path w="1564" h="274">
                <a:moveTo>
                  <a:pt x="3671" y="11832"/>
                </a:moveTo>
                <a:cubicBezTo>
                  <a:pt x="3737" y="11854"/>
                  <a:pt x="3772" y="11857"/>
                  <a:pt x="3845" y="11857"/>
                </a:cubicBezTo>
                <a:cubicBezTo>
                  <a:pt x="3907" y="11857"/>
                  <a:pt x="4008" y="11848"/>
                  <a:pt x="4068" y="11832"/>
                </a:cubicBezTo>
                <a:cubicBezTo>
                  <a:pt x="4142" y="11812"/>
                  <a:pt x="4213" y="11772"/>
                  <a:pt x="4291" y="11757"/>
                </a:cubicBezTo>
                <a:cubicBezTo>
                  <a:pt x="4359" y="11744"/>
                  <a:pt x="4448" y="11741"/>
                  <a:pt x="4514" y="11733"/>
                </a:cubicBezTo>
                <a:cubicBezTo>
                  <a:pt x="4580" y="11725"/>
                  <a:pt x="4658" y="11716"/>
                  <a:pt x="4713" y="11708"/>
                </a:cubicBezTo>
                <a:cubicBezTo>
                  <a:pt x="4787" y="11697"/>
                  <a:pt x="4865" y="11694"/>
                  <a:pt x="4936" y="11683"/>
                </a:cubicBezTo>
                <a:cubicBezTo>
                  <a:pt x="4998" y="11673"/>
                  <a:pt x="5046" y="11689"/>
                  <a:pt x="5110" y="11683"/>
                </a:cubicBezTo>
                <a:cubicBezTo>
                  <a:pt x="5149" y="11679"/>
                  <a:pt x="5195" y="11683"/>
                  <a:pt x="5234" y="11683"/>
                </a:cubicBezTo>
              </a:path>
              <a:path w="1564" h="274">
                <a:moveTo>
                  <a:pt x="4837" y="11658"/>
                </a:moveTo>
                <a:cubicBezTo>
                  <a:pt x="4879" y="11637"/>
                  <a:pt x="4979" y="11645"/>
                  <a:pt x="4936" y="11633"/>
                </a:cubicBezTo>
                <a:cubicBezTo>
                  <a:pt x="4911" y="11625"/>
                  <a:pt x="4887" y="11617"/>
                  <a:pt x="4862" y="11609"/>
                </a:cubicBezTo>
                <a:cubicBezTo>
                  <a:pt x="5145" y="11594"/>
                  <a:pt x="5073" y="11604"/>
                  <a:pt x="4837" y="11658"/>
                </a:cubicBezTo>
                <a:cubicBezTo>
                  <a:pt x="4693" y="11691"/>
                  <a:pt x="5046" y="11634"/>
                  <a:pt x="5085" y="11633"/>
                </a:cubicBezTo>
                <a:cubicBezTo>
                  <a:pt x="5302" y="11626"/>
                  <a:pt x="4564" y="11651"/>
                  <a:pt x="4986" y="11683"/>
                </a:cubicBezTo>
                <a:cubicBezTo>
                  <a:pt x="5100" y="11692"/>
                  <a:pt x="5372" y="11708"/>
                  <a:pt x="5035" y="11708"/>
                </a:cubicBezTo>
                <a:cubicBezTo>
                  <a:pt x="4941" y="11708"/>
                  <a:pt x="4878" y="11687"/>
                  <a:pt x="4936" y="11733"/>
                </a:cubicBezTo>
                <a:cubicBezTo>
                  <a:pt x="5050" y="11749"/>
                  <a:pt x="5323" y="11762"/>
                  <a:pt x="4986" y="11733"/>
                </a:cubicBezTo>
                <a:cubicBezTo>
                  <a:pt x="4760" y="11714"/>
                  <a:pt x="5161" y="11792"/>
                  <a:pt x="5159" y="11757"/>
                </a:cubicBezTo>
                <a:cubicBezTo>
                  <a:pt x="5134" y="11732"/>
                  <a:pt x="5110" y="11708"/>
                  <a:pt x="5085" y="11683"/>
                </a:cubicBezTo>
                <a:cubicBezTo>
                  <a:pt x="4888" y="11716"/>
                  <a:pt x="5026" y="11772"/>
                  <a:pt x="5085" y="11733"/>
                </a:cubicBezTo>
                <a:cubicBezTo>
                  <a:pt x="5222" y="11642"/>
                  <a:pt x="4619" y="11737"/>
                  <a:pt x="5011" y="11807"/>
                </a:cubicBezTo>
                <a:cubicBezTo>
                  <a:pt x="5140" y="11830"/>
                  <a:pt x="5075" y="11779"/>
                  <a:pt x="5035" y="11733"/>
                </a:cubicBezTo>
              </a:path>
              <a:path w="1564" h="274">
                <a:moveTo>
                  <a:pt x="5110" y="11633"/>
                </a:moveTo>
                <a:cubicBezTo>
                  <a:pt x="4935" y="11677"/>
                  <a:pt x="4953" y="11698"/>
                  <a:pt x="5135" y="11708"/>
                </a:cubicBezTo>
                <a:cubicBezTo>
                  <a:pt x="5168" y="11708"/>
                  <a:pt x="5201" y="11708"/>
                  <a:pt x="5234" y="11708"/>
                </a:cubicBezTo>
                <a:cubicBezTo>
                  <a:pt x="5185" y="11708"/>
                  <a:pt x="4879" y="11682"/>
                  <a:pt x="4961" y="11708"/>
                </a:cubicBezTo>
                <a:cubicBezTo>
                  <a:pt x="5214" y="11789"/>
                  <a:pt x="5076" y="11733"/>
                  <a:pt x="4887" y="11733"/>
                </a:cubicBezTo>
                <a:cubicBezTo>
                  <a:pt x="4930" y="11733"/>
                  <a:pt x="5243" y="11757"/>
                  <a:pt x="5110" y="11708"/>
                </a:cubicBezTo>
                <a:cubicBezTo>
                  <a:pt x="5078" y="11696"/>
                  <a:pt x="4854" y="11683"/>
                  <a:pt x="5035" y="116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33880" y="4483080"/>
            <a:ext cx="447480" cy="581040"/>
          </a:xfrm>
          <a:custGeom>
            <a:avLst/>
            <a:gdLst/>
            <a:ahLst/>
            <a:rect l="l" t="t" r="r" b="b"/>
            <a:pathLst>
              <a:path w="1241" h="1613">
                <a:moveTo>
                  <a:pt x="12427" y="12650"/>
                </a:moveTo>
                <a:cubicBezTo>
                  <a:pt x="12395" y="12537"/>
                  <a:pt x="12322" y="12399"/>
                  <a:pt x="12179" y="12477"/>
                </a:cubicBezTo>
                <a:cubicBezTo>
                  <a:pt x="12029" y="12602"/>
                  <a:pt x="11978" y="12645"/>
                  <a:pt x="11931" y="12774"/>
                </a:cubicBezTo>
                <a:cubicBezTo>
                  <a:pt x="12112" y="12941"/>
                  <a:pt x="12216" y="12807"/>
                  <a:pt x="12353" y="12601"/>
                </a:cubicBezTo>
                <a:cubicBezTo>
                  <a:pt x="12361" y="12584"/>
                  <a:pt x="12370" y="12568"/>
                  <a:pt x="12378" y="12551"/>
                </a:cubicBezTo>
                <a:cubicBezTo>
                  <a:pt x="12405" y="12762"/>
                  <a:pt x="12397" y="12937"/>
                  <a:pt x="12353" y="13146"/>
                </a:cubicBezTo>
              </a:path>
              <a:path w="1241" h="1613">
                <a:moveTo>
                  <a:pt x="11485" y="13295"/>
                </a:moveTo>
                <a:cubicBezTo>
                  <a:pt x="11863" y="13285"/>
                  <a:pt x="12250" y="13215"/>
                  <a:pt x="12626" y="13221"/>
                </a:cubicBezTo>
                <a:cubicBezTo>
                  <a:pt x="12659" y="13229"/>
                  <a:pt x="12692" y="13238"/>
                  <a:pt x="12725" y="13246"/>
                </a:cubicBezTo>
              </a:path>
              <a:path w="1241" h="1613">
                <a:moveTo>
                  <a:pt x="11881" y="13494"/>
                </a:moveTo>
                <a:cubicBezTo>
                  <a:pt x="11901" y="13686"/>
                  <a:pt x="11906" y="13871"/>
                  <a:pt x="11906" y="14064"/>
                </a:cubicBezTo>
              </a:path>
              <a:path w="1241" h="1613">
                <a:moveTo>
                  <a:pt x="12477" y="13519"/>
                </a:moveTo>
                <a:cubicBezTo>
                  <a:pt x="12359" y="13660"/>
                  <a:pt x="12329" y="13711"/>
                  <a:pt x="12303" y="13891"/>
                </a:cubicBezTo>
                <a:cubicBezTo>
                  <a:pt x="12504" y="13952"/>
                  <a:pt x="12587" y="13925"/>
                  <a:pt x="12700" y="13742"/>
                </a:cubicBezTo>
                <a:cubicBezTo>
                  <a:pt x="12584" y="13620"/>
                  <a:pt x="12538" y="13562"/>
                  <a:pt x="12378" y="135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27320" y="5340240"/>
            <a:ext cx="446400" cy="588960"/>
          </a:xfrm>
          <a:custGeom>
            <a:avLst/>
            <a:gdLst/>
            <a:ahLst/>
            <a:rect l="l" t="t" r="r" b="b"/>
            <a:pathLst>
              <a:path w="1241" h="1638">
                <a:moveTo>
                  <a:pt x="11460" y="15007"/>
                </a:moveTo>
                <a:cubicBezTo>
                  <a:pt x="11440" y="15067"/>
                  <a:pt x="11441" y="15082"/>
                  <a:pt x="11410" y="15106"/>
                </a:cubicBezTo>
                <a:cubicBezTo>
                  <a:pt x="11655" y="14975"/>
                  <a:pt x="11643" y="15235"/>
                  <a:pt x="11485" y="15404"/>
                </a:cubicBezTo>
                <a:cubicBezTo>
                  <a:pt x="11357" y="15489"/>
                  <a:pt x="11332" y="15528"/>
                  <a:pt x="11237" y="15478"/>
                </a:cubicBezTo>
                <a:cubicBezTo>
                  <a:pt x="11269" y="15316"/>
                  <a:pt x="11362" y="15378"/>
                  <a:pt x="11485" y="15453"/>
                </a:cubicBezTo>
                <a:cubicBezTo>
                  <a:pt x="11510" y="15470"/>
                  <a:pt x="11534" y="15486"/>
                  <a:pt x="11559" y="15503"/>
                </a:cubicBezTo>
              </a:path>
              <a:path w="1241" h="1638">
                <a:moveTo>
                  <a:pt x="11832" y="15032"/>
                </a:moveTo>
                <a:cubicBezTo>
                  <a:pt x="11666" y="15197"/>
                  <a:pt x="11630" y="15260"/>
                  <a:pt x="11733" y="15478"/>
                </a:cubicBezTo>
                <a:cubicBezTo>
                  <a:pt x="11974" y="15357"/>
                  <a:pt x="11974" y="15261"/>
                  <a:pt x="11782" y="15081"/>
                </a:cubicBezTo>
              </a:path>
              <a:path w="1241" h="1638">
                <a:moveTo>
                  <a:pt x="12105" y="14982"/>
                </a:moveTo>
                <a:cubicBezTo>
                  <a:pt x="12095" y="15077"/>
                  <a:pt x="12029" y="15249"/>
                  <a:pt x="12204" y="15230"/>
                </a:cubicBezTo>
                <a:cubicBezTo>
                  <a:pt x="12245" y="15213"/>
                  <a:pt x="12287" y="15197"/>
                  <a:pt x="12328" y="15180"/>
                </a:cubicBezTo>
              </a:path>
              <a:path w="1241" h="1638">
                <a:moveTo>
                  <a:pt x="12378" y="14833"/>
                </a:moveTo>
                <a:cubicBezTo>
                  <a:pt x="12321" y="15047"/>
                  <a:pt x="12290" y="15281"/>
                  <a:pt x="12254" y="15503"/>
                </a:cubicBezTo>
              </a:path>
              <a:path w="1241" h="1638">
                <a:moveTo>
                  <a:pt x="11187" y="15701"/>
                </a:moveTo>
                <a:cubicBezTo>
                  <a:pt x="11581" y="15681"/>
                  <a:pt x="11982" y="15597"/>
                  <a:pt x="12378" y="15627"/>
                </a:cubicBezTo>
                <a:cubicBezTo>
                  <a:pt x="12394" y="15635"/>
                  <a:pt x="12411" y="15644"/>
                  <a:pt x="12427" y="15652"/>
                </a:cubicBezTo>
              </a:path>
              <a:path w="1241" h="1638">
                <a:moveTo>
                  <a:pt x="11534" y="15925"/>
                </a:moveTo>
                <a:cubicBezTo>
                  <a:pt x="11498" y="16134"/>
                  <a:pt x="11471" y="16286"/>
                  <a:pt x="11361" y="16470"/>
                </a:cubicBezTo>
              </a:path>
              <a:path w="1241" h="1638">
                <a:moveTo>
                  <a:pt x="11733" y="15999"/>
                </a:moveTo>
                <a:cubicBezTo>
                  <a:pt x="11656" y="16152"/>
                  <a:pt x="11638" y="16181"/>
                  <a:pt x="11658" y="16346"/>
                </a:cubicBezTo>
                <a:cubicBezTo>
                  <a:pt x="11788" y="16308"/>
                  <a:pt x="12087" y="16100"/>
                  <a:pt x="11807" y="15999"/>
                </a:cubicBezTo>
                <a:cubicBezTo>
                  <a:pt x="11766" y="15999"/>
                  <a:pt x="11724" y="15999"/>
                  <a:pt x="11683" y="15999"/>
                </a:cubicBezTo>
              </a:path>
              <a:path w="1241" h="1638">
                <a:moveTo>
                  <a:pt x="12005" y="16073"/>
                </a:moveTo>
                <a:cubicBezTo>
                  <a:pt x="11989" y="16231"/>
                  <a:pt x="12007" y="16486"/>
                  <a:pt x="12254" y="16321"/>
                </a:cubicBezTo>
                <a:cubicBezTo>
                  <a:pt x="12465" y="16180"/>
                  <a:pt x="12339" y="16087"/>
                  <a:pt x="12229" y="159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05200" y="5249880"/>
            <a:ext cx="982800" cy="706320"/>
          </a:xfrm>
          <a:custGeom>
            <a:avLst/>
            <a:gdLst/>
            <a:ahLst/>
            <a:rect l="l" t="t" r="r" b="b"/>
            <a:pathLst>
              <a:path w="2730" h="1961">
                <a:moveTo>
                  <a:pt x="13345" y="15404"/>
                </a:moveTo>
                <a:cubicBezTo>
                  <a:pt x="13513" y="15291"/>
                  <a:pt x="13565" y="15272"/>
                  <a:pt x="13767" y="15255"/>
                </a:cubicBezTo>
                <a:cubicBezTo>
                  <a:pt x="13895" y="15569"/>
                  <a:pt x="13586" y="15775"/>
                  <a:pt x="13370" y="16024"/>
                </a:cubicBezTo>
                <a:cubicBezTo>
                  <a:pt x="13272" y="16137"/>
                  <a:pt x="13177" y="16242"/>
                  <a:pt x="13072" y="16346"/>
                </a:cubicBezTo>
                <a:cubicBezTo>
                  <a:pt x="13284" y="16124"/>
                  <a:pt x="13330" y="16053"/>
                  <a:pt x="13618" y="16173"/>
                </a:cubicBezTo>
                <a:cubicBezTo>
                  <a:pt x="13779" y="16242"/>
                  <a:pt x="13824" y="16267"/>
                  <a:pt x="13940" y="16247"/>
                </a:cubicBezTo>
              </a:path>
              <a:path w="2730" h="1961">
                <a:moveTo>
                  <a:pt x="14759" y="14932"/>
                </a:moveTo>
                <a:cubicBezTo>
                  <a:pt x="14734" y="14982"/>
                  <a:pt x="14709" y="15031"/>
                  <a:pt x="14684" y="15081"/>
                </a:cubicBezTo>
                <a:cubicBezTo>
                  <a:pt x="14610" y="15133"/>
                  <a:pt x="14677" y="14968"/>
                  <a:pt x="14734" y="15007"/>
                </a:cubicBezTo>
                <a:cubicBezTo>
                  <a:pt x="14885" y="15111"/>
                  <a:pt x="15077" y="15438"/>
                  <a:pt x="15131" y="15056"/>
                </a:cubicBezTo>
                <a:cubicBezTo>
                  <a:pt x="15131" y="14832"/>
                  <a:pt x="15134" y="14774"/>
                  <a:pt x="15106" y="14635"/>
                </a:cubicBezTo>
                <a:cubicBezTo>
                  <a:pt x="14985" y="14434"/>
                  <a:pt x="15053" y="14997"/>
                  <a:pt x="15032" y="15230"/>
                </a:cubicBezTo>
                <a:cubicBezTo>
                  <a:pt x="15024" y="15304"/>
                  <a:pt x="15015" y="15379"/>
                  <a:pt x="15007" y="15453"/>
                </a:cubicBezTo>
              </a:path>
              <a:path w="2730" h="1961">
                <a:moveTo>
                  <a:pt x="14436" y="15701"/>
                </a:moveTo>
                <a:cubicBezTo>
                  <a:pt x="14845" y="15692"/>
                  <a:pt x="15244" y="15683"/>
                  <a:pt x="15652" y="15701"/>
                </a:cubicBezTo>
                <a:cubicBezTo>
                  <a:pt x="15685" y="15701"/>
                  <a:pt x="15718" y="15701"/>
                  <a:pt x="15751" y="15701"/>
                </a:cubicBezTo>
              </a:path>
              <a:path w="2730" h="1961">
                <a:moveTo>
                  <a:pt x="14660" y="15999"/>
                </a:moveTo>
                <a:cubicBezTo>
                  <a:pt x="14655" y="16182"/>
                  <a:pt x="14646" y="16341"/>
                  <a:pt x="14610" y="16520"/>
                </a:cubicBezTo>
              </a:path>
              <a:path w="2730" h="1961">
                <a:moveTo>
                  <a:pt x="15081" y="15925"/>
                </a:moveTo>
                <a:cubicBezTo>
                  <a:pt x="14968" y="16095"/>
                  <a:pt x="14883" y="16200"/>
                  <a:pt x="14883" y="16396"/>
                </a:cubicBezTo>
                <a:cubicBezTo>
                  <a:pt x="15082" y="16449"/>
                  <a:pt x="15360" y="16407"/>
                  <a:pt x="15255" y="16098"/>
                </a:cubicBezTo>
                <a:cubicBezTo>
                  <a:pt x="15165" y="16008"/>
                  <a:pt x="15144" y="15978"/>
                  <a:pt x="15056" y="15974"/>
                </a:cubicBezTo>
              </a:path>
              <a:path w="2730" h="1961">
                <a:moveTo>
                  <a:pt x="15478" y="15974"/>
                </a:moveTo>
                <a:cubicBezTo>
                  <a:pt x="15364" y="16148"/>
                  <a:pt x="15155" y="16478"/>
                  <a:pt x="15528" y="16545"/>
                </a:cubicBezTo>
                <a:cubicBezTo>
                  <a:pt x="15586" y="16537"/>
                  <a:pt x="15643" y="16528"/>
                  <a:pt x="15701" y="16520"/>
                </a:cubicBezTo>
                <a:cubicBezTo>
                  <a:pt x="15852" y="16151"/>
                  <a:pt x="15782" y="16068"/>
                  <a:pt x="15404" y="15999"/>
                </a:cubicBezTo>
              </a:path>
              <a:path w="2730" h="1961">
                <a:moveTo>
                  <a:pt x="14188" y="15602"/>
                </a:moveTo>
                <a:lnTo>
                  <a:pt x="14188" y="1560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8120" y="5554800"/>
            <a:ext cx="98640" cy="88920"/>
          </a:xfrm>
          <a:custGeom>
            <a:avLst/>
            <a:gdLst/>
            <a:ahLst/>
            <a:rect l="l" t="t" r="r" b="b"/>
            <a:pathLst>
              <a:path w="274" h="249">
                <a:moveTo>
                  <a:pt x="16718" y="15453"/>
                </a:moveTo>
                <a:cubicBezTo>
                  <a:pt x="16806" y="15437"/>
                  <a:pt x="16877" y="15429"/>
                  <a:pt x="16966" y="15429"/>
                </a:cubicBezTo>
              </a:path>
              <a:path w="274" h="249">
                <a:moveTo>
                  <a:pt x="16718" y="15677"/>
                </a:moveTo>
                <a:cubicBezTo>
                  <a:pt x="16813" y="15648"/>
                  <a:pt x="16892" y="15627"/>
                  <a:pt x="16991" y="156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57960" y="5249880"/>
            <a:ext cx="1714320" cy="554040"/>
          </a:xfrm>
          <a:custGeom>
            <a:avLst/>
            <a:gdLst/>
            <a:ahLst/>
            <a:rect l="l" t="t" r="r" b="b"/>
            <a:pathLst>
              <a:path w="4763" h="1539">
                <a:moveTo>
                  <a:pt x="17760" y="15255"/>
                </a:moveTo>
                <a:cubicBezTo>
                  <a:pt x="17751" y="15177"/>
                  <a:pt x="17788" y="15056"/>
                  <a:pt x="17909" y="15056"/>
                </a:cubicBezTo>
                <a:cubicBezTo>
                  <a:pt x="18143" y="15056"/>
                  <a:pt x="18024" y="15403"/>
                  <a:pt x="17983" y="15503"/>
                </a:cubicBezTo>
                <a:cubicBezTo>
                  <a:pt x="17899" y="15706"/>
                  <a:pt x="17771" y="15885"/>
                  <a:pt x="17661" y="16073"/>
                </a:cubicBezTo>
                <a:cubicBezTo>
                  <a:pt x="17708" y="15941"/>
                  <a:pt x="17787" y="15696"/>
                  <a:pt x="17983" y="15801"/>
                </a:cubicBezTo>
                <a:cubicBezTo>
                  <a:pt x="18153" y="15892"/>
                  <a:pt x="18109" y="16032"/>
                  <a:pt x="18306" y="15949"/>
                </a:cubicBezTo>
              </a:path>
              <a:path w="4763" h="1539">
                <a:moveTo>
                  <a:pt x="18678" y="14759"/>
                </a:moveTo>
                <a:cubicBezTo>
                  <a:pt x="18649" y="14674"/>
                  <a:pt x="18702" y="14611"/>
                  <a:pt x="18802" y="14585"/>
                </a:cubicBezTo>
                <a:cubicBezTo>
                  <a:pt x="18819" y="14585"/>
                  <a:pt x="18835" y="14585"/>
                  <a:pt x="18852" y="14585"/>
                </a:cubicBezTo>
                <a:cubicBezTo>
                  <a:pt x="18876" y="14758"/>
                  <a:pt x="18840" y="14878"/>
                  <a:pt x="18752" y="15032"/>
                </a:cubicBezTo>
                <a:cubicBezTo>
                  <a:pt x="18709" y="15097"/>
                  <a:pt x="18703" y="15117"/>
                  <a:pt x="18653" y="15131"/>
                </a:cubicBezTo>
                <a:cubicBezTo>
                  <a:pt x="18718" y="15066"/>
                  <a:pt x="18776" y="15026"/>
                  <a:pt x="18876" y="15056"/>
                </a:cubicBezTo>
                <a:cubicBezTo>
                  <a:pt x="18923" y="15070"/>
                  <a:pt x="18966" y="15081"/>
                  <a:pt x="19025" y="15081"/>
                </a:cubicBezTo>
              </a:path>
              <a:path w="4763" h="1539">
                <a:moveTo>
                  <a:pt x="18504" y="15379"/>
                </a:moveTo>
                <a:cubicBezTo>
                  <a:pt x="18737" y="15343"/>
                  <a:pt x="18966" y="15287"/>
                  <a:pt x="19199" y="15255"/>
                </a:cubicBezTo>
                <a:cubicBezTo>
                  <a:pt x="19215" y="15255"/>
                  <a:pt x="19232" y="15255"/>
                  <a:pt x="19248" y="15255"/>
                </a:cubicBezTo>
              </a:path>
              <a:path w="4763" h="1539">
                <a:moveTo>
                  <a:pt x="18703" y="15627"/>
                </a:moveTo>
                <a:cubicBezTo>
                  <a:pt x="18719" y="15619"/>
                  <a:pt x="18736" y="15610"/>
                  <a:pt x="18752" y="15602"/>
                </a:cubicBezTo>
                <a:cubicBezTo>
                  <a:pt x="18689" y="15607"/>
                  <a:pt x="18474" y="15657"/>
                  <a:pt x="18579" y="15776"/>
                </a:cubicBezTo>
                <a:cubicBezTo>
                  <a:pt x="18599" y="15798"/>
                  <a:pt x="18892" y="15756"/>
                  <a:pt x="18951" y="15776"/>
                </a:cubicBezTo>
                <a:cubicBezTo>
                  <a:pt x="18975" y="15962"/>
                  <a:pt x="18945" y="16041"/>
                  <a:pt x="18728" y="16024"/>
                </a:cubicBezTo>
                <a:cubicBezTo>
                  <a:pt x="18695" y="16016"/>
                  <a:pt x="18661" y="16007"/>
                  <a:pt x="18628" y="15999"/>
                </a:cubicBezTo>
              </a:path>
              <a:path w="4763" h="1539">
                <a:moveTo>
                  <a:pt x="19199" y="15553"/>
                </a:moveTo>
                <a:cubicBezTo>
                  <a:pt x="19129" y="15674"/>
                  <a:pt x="19123" y="15765"/>
                  <a:pt x="19224" y="15875"/>
                </a:cubicBezTo>
                <a:cubicBezTo>
                  <a:pt x="19295" y="15923"/>
                  <a:pt x="19316" y="15941"/>
                  <a:pt x="19372" y="15900"/>
                </a:cubicBezTo>
                <a:cubicBezTo>
                  <a:pt x="19432" y="15720"/>
                  <a:pt x="19423" y="15652"/>
                  <a:pt x="19248" y="15577"/>
                </a:cubicBezTo>
              </a:path>
              <a:path w="4763" h="1539">
                <a:moveTo>
                  <a:pt x="19993" y="15106"/>
                </a:moveTo>
                <a:cubicBezTo>
                  <a:pt x="20112" y="15106"/>
                  <a:pt x="20223" y="15092"/>
                  <a:pt x="20340" y="15081"/>
                </a:cubicBezTo>
              </a:path>
              <a:path w="4763" h="1539">
                <a:moveTo>
                  <a:pt x="20017" y="15280"/>
                </a:moveTo>
                <a:cubicBezTo>
                  <a:pt x="20116" y="15280"/>
                  <a:pt x="20216" y="15280"/>
                  <a:pt x="20315" y="15280"/>
                </a:cubicBezTo>
              </a:path>
              <a:path w="4763" h="1539">
                <a:moveTo>
                  <a:pt x="22051" y="14759"/>
                </a:moveTo>
                <a:cubicBezTo>
                  <a:pt x="22008" y="14737"/>
                  <a:pt x="21996" y="14733"/>
                  <a:pt x="21977" y="14709"/>
                </a:cubicBezTo>
                <a:cubicBezTo>
                  <a:pt x="21977" y="14877"/>
                  <a:pt x="21993" y="15039"/>
                  <a:pt x="22002" y="15205"/>
                </a:cubicBezTo>
              </a:path>
              <a:path w="4763" h="1539">
                <a:moveTo>
                  <a:pt x="21605" y="15379"/>
                </a:moveTo>
                <a:cubicBezTo>
                  <a:pt x="21854" y="15317"/>
                  <a:pt x="22092" y="15269"/>
                  <a:pt x="22349" y="15255"/>
                </a:cubicBezTo>
              </a:path>
              <a:path w="4763" h="1539">
                <a:moveTo>
                  <a:pt x="21506" y="15751"/>
                </a:moveTo>
                <a:cubicBezTo>
                  <a:pt x="21571" y="15658"/>
                  <a:pt x="21685" y="15618"/>
                  <a:pt x="21803" y="15677"/>
                </a:cubicBezTo>
                <a:cubicBezTo>
                  <a:pt x="21828" y="15702"/>
                  <a:pt x="21853" y="15726"/>
                  <a:pt x="21878" y="15751"/>
                </a:cubicBezTo>
                <a:cubicBezTo>
                  <a:pt x="21796" y="15997"/>
                  <a:pt x="21735" y="16075"/>
                  <a:pt x="21481" y="16123"/>
                </a:cubicBezTo>
                <a:cubicBezTo>
                  <a:pt x="21491" y="15986"/>
                  <a:pt x="21617" y="15826"/>
                  <a:pt x="21803" y="15925"/>
                </a:cubicBezTo>
                <a:cubicBezTo>
                  <a:pt x="21860" y="15955"/>
                  <a:pt x="21871" y="16045"/>
                  <a:pt x="21878" y="16098"/>
                </a:cubicBezTo>
              </a:path>
              <a:path w="4763" h="1539">
                <a:moveTo>
                  <a:pt x="22250" y="15553"/>
                </a:moveTo>
                <a:cubicBezTo>
                  <a:pt x="22078" y="15593"/>
                  <a:pt x="22054" y="15598"/>
                  <a:pt x="22027" y="15776"/>
                </a:cubicBezTo>
                <a:cubicBezTo>
                  <a:pt x="22145" y="15758"/>
                  <a:pt x="22289" y="15665"/>
                  <a:pt x="22399" y="15776"/>
                </a:cubicBezTo>
                <a:cubicBezTo>
                  <a:pt x="22407" y="15801"/>
                  <a:pt x="22415" y="15825"/>
                  <a:pt x="22423" y="15850"/>
                </a:cubicBezTo>
                <a:cubicBezTo>
                  <a:pt x="22332" y="16034"/>
                  <a:pt x="22254" y="16005"/>
                  <a:pt x="22051" y="15974"/>
                </a:cubicBezTo>
              </a:path>
              <a:path w="4763" h="1539">
                <a:moveTo>
                  <a:pt x="20687" y="15081"/>
                </a:moveTo>
                <a:cubicBezTo>
                  <a:pt x="20743" y="15025"/>
                  <a:pt x="20775" y="15002"/>
                  <a:pt x="20836" y="14957"/>
                </a:cubicBezTo>
                <a:cubicBezTo>
                  <a:pt x="20917" y="14897"/>
                  <a:pt x="20992" y="14889"/>
                  <a:pt x="21084" y="14957"/>
                </a:cubicBezTo>
                <a:cubicBezTo>
                  <a:pt x="21185" y="15032"/>
                  <a:pt x="21167" y="15155"/>
                  <a:pt x="21158" y="15255"/>
                </a:cubicBezTo>
                <a:cubicBezTo>
                  <a:pt x="21149" y="15350"/>
                  <a:pt x="21172" y="15354"/>
                  <a:pt x="21109" y="15429"/>
                </a:cubicBezTo>
                <a:cubicBezTo>
                  <a:pt x="21049" y="15500"/>
                  <a:pt x="20967" y="15515"/>
                  <a:pt x="20886" y="15553"/>
                </a:cubicBezTo>
                <a:cubicBezTo>
                  <a:pt x="20821" y="15583"/>
                  <a:pt x="20700" y="15636"/>
                  <a:pt x="20662" y="15701"/>
                </a:cubicBezTo>
                <a:cubicBezTo>
                  <a:pt x="20603" y="15802"/>
                  <a:pt x="20553" y="15931"/>
                  <a:pt x="20538" y="16049"/>
                </a:cubicBezTo>
                <a:cubicBezTo>
                  <a:pt x="20538" y="16082"/>
                  <a:pt x="20538" y="16098"/>
                  <a:pt x="20538" y="16123"/>
                </a:cubicBezTo>
                <a:cubicBezTo>
                  <a:pt x="20546" y="16061"/>
                  <a:pt x="20559" y="15992"/>
                  <a:pt x="20613" y="15949"/>
                </a:cubicBezTo>
                <a:cubicBezTo>
                  <a:pt x="20692" y="15887"/>
                  <a:pt x="20789" y="15847"/>
                  <a:pt x="20861" y="15949"/>
                </a:cubicBezTo>
                <a:cubicBezTo>
                  <a:pt x="20901" y="16006"/>
                  <a:pt x="20978" y="16118"/>
                  <a:pt x="21084" y="16073"/>
                </a:cubicBezTo>
                <a:cubicBezTo>
                  <a:pt x="21101" y="16057"/>
                  <a:pt x="21117" y="16040"/>
                  <a:pt x="21134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rite fractions as decimals and percents, and vice 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s tell how many parts of 100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914400" y="2286000"/>
                <a:ext cx="628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1742760" y="243036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42 parts of 100 or 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06280" y="38955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905120" y="3886200"/>
                <a:ext cx="514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2548800" y="384660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41280" y="503064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133720" y="4952880"/>
                <a:ext cx="407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2633040" y="498312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3120" y="43578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093" y="12105"/>
                </a:moveTo>
                <a:lnTo>
                  <a:pt x="4093" y="1210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9080" y="2152800"/>
            <a:ext cx="662040" cy="554040"/>
          </a:xfrm>
          <a:custGeom>
            <a:avLst/>
            <a:gdLst/>
            <a:ahLst/>
            <a:rect l="l" t="t" r="r" b="b"/>
            <a:pathLst>
              <a:path w="1836" h="1539">
                <a:moveTo>
                  <a:pt x="2803" y="7367"/>
                </a:moveTo>
                <a:cubicBezTo>
                  <a:pt x="2925" y="7438"/>
                  <a:pt x="3035" y="7462"/>
                  <a:pt x="3175" y="7491"/>
                </a:cubicBezTo>
                <a:cubicBezTo>
                  <a:pt x="3338" y="7525"/>
                  <a:pt x="3486" y="7483"/>
                  <a:pt x="3646" y="7441"/>
                </a:cubicBezTo>
                <a:cubicBezTo>
                  <a:pt x="3801" y="7401"/>
                  <a:pt x="3963" y="7368"/>
                  <a:pt x="4093" y="7268"/>
                </a:cubicBezTo>
                <a:cubicBezTo>
                  <a:pt x="4172" y="7207"/>
                  <a:pt x="4301" y="7090"/>
                  <a:pt x="4341" y="6995"/>
                </a:cubicBezTo>
                <a:cubicBezTo>
                  <a:pt x="4387" y="6887"/>
                  <a:pt x="4420" y="6712"/>
                  <a:pt x="4390" y="6598"/>
                </a:cubicBezTo>
                <a:cubicBezTo>
                  <a:pt x="4364" y="6499"/>
                  <a:pt x="4290" y="6324"/>
                  <a:pt x="4217" y="6251"/>
                </a:cubicBezTo>
                <a:cubicBezTo>
                  <a:pt x="4120" y="6154"/>
                  <a:pt x="4000" y="6072"/>
                  <a:pt x="3870" y="6028"/>
                </a:cubicBezTo>
                <a:cubicBezTo>
                  <a:pt x="3755" y="5989"/>
                  <a:pt x="3619" y="5960"/>
                  <a:pt x="3497" y="5978"/>
                </a:cubicBezTo>
                <a:cubicBezTo>
                  <a:pt x="3342" y="6000"/>
                  <a:pt x="3195" y="6048"/>
                  <a:pt x="3051" y="6102"/>
                </a:cubicBezTo>
                <a:cubicBezTo>
                  <a:pt x="2949" y="6141"/>
                  <a:pt x="2861" y="6147"/>
                  <a:pt x="2778" y="6226"/>
                </a:cubicBezTo>
                <a:cubicBezTo>
                  <a:pt x="2714" y="6287"/>
                  <a:pt x="2637" y="6389"/>
                  <a:pt x="2604" y="6474"/>
                </a:cubicBezTo>
                <a:cubicBezTo>
                  <a:pt x="2569" y="6565"/>
                  <a:pt x="2546" y="6649"/>
                  <a:pt x="2555" y="6747"/>
                </a:cubicBezTo>
                <a:cubicBezTo>
                  <a:pt x="2563" y="6828"/>
                  <a:pt x="2575" y="6918"/>
                  <a:pt x="2604" y="6995"/>
                </a:cubicBezTo>
                <a:cubicBezTo>
                  <a:pt x="2619" y="7034"/>
                  <a:pt x="2669" y="7145"/>
                  <a:pt x="2704" y="7169"/>
                </a:cubicBezTo>
                <a:cubicBezTo>
                  <a:pt x="2774" y="7218"/>
                  <a:pt x="2869" y="7262"/>
                  <a:pt x="2952" y="7293"/>
                </a:cubicBezTo>
                <a:cubicBezTo>
                  <a:pt x="3032" y="7323"/>
                  <a:pt x="3124" y="7339"/>
                  <a:pt x="3200" y="7367"/>
                </a:cubicBezTo>
                <a:cubicBezTo>
                  <a:pt x="3240" y="7387"/>
                  <a:pt x="3246" y="7396"/>
                  <a:pt x="3274" y="73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00760" y="3697200"/>
            <a:ext cx="812520" cy="384120"/>
          </a:xfrm>
          <a:custGeom>
            <a:avLst/>
            <a:gdLst/>
            <a:ahLst/>
            <a:rect l="l" t="t" r="r" b="b"/>
            <a:pathLst>
              <a:path w="2258" h="1068">
                <a:moveTo>
                  <a:pt x="14188" y="10592"/>
                </a:moveTo>
                <a:cubicBezTo>
                  <a:pt x="14262" y="10518"/>
                  <a:pt x="14286" y="10493"/>
                  <a:pt x="14362" y="10542"/>
                </a:cubicBezTo>
                <a:cubicBezTo>
                  <a:pt x="14429" y="10875"/>
                  <a:pt x="14352" y="11112"/>
                  <a:pt x="14039" y="11311"/>
                </a:cubicBezTo>
                <a:cubicBezTo>
                  <a:pt x="13998" y="11319"/>
                  <a:pt x="13956" y="11328"/>
                  <a:pt x="13915" y="11336"/>
                </a:cubicBezTo>
                <a:cubicBezTo>
                  <a:pt x="13926" y="11119"/>
                  <a:pt x="14033" y="10902"/>
                  <a:pt x="14288" y="11088"/>
                </a:cubicBezTo>
                <a:cubicBezTo>
                  <a:pt x="14358" y="11181"/>
                  <a:pt x="14381" y="11207"/>
                  <a:pt x="14387" y="11286"/>
                </a:cubicBezTo>
              </a:path>
              <a:path w="2258" h="1068">
                <a:moveTo>
                  <a:pt x="14684" y="10468"/>
                </a:moveTo>
                <a:cubicBezTo>
                  <a:pt x="14756" y="10360"/>
                  <a:pt x="14761" y="10368"/>
                  <a:pt x="14883" y="10344"/>
                </a:cubicBezTo>
                <a:cubicBezTo>
                  <a:pt x="14950" y="10436"/>
                  <a:pt x="14964" y="10656"/>
                  <a:pt x="14784" y="10716"/>
                </a:cubicBezTo>
                <a:cubicBezTo>
                  <a:pt x="14784" y="10699"/>
                  <a:pt x="14784" y="10683"/>
                  <a:pt x="14784" y="10666"/>
                </a:cubicBezTo>
                <a:cubicBezTo>
                  <a:pt x="14966" y="10706"/>
                  <a:pt x="15104" y="10867"/>
                  <a:pt x="14908" y="11063"/>
                </a:cubicBezTo>
                <a:cubicBezTo>
                  <a:pt x="14749" y="11221"/>
                  <a:pt x="14632" y="11129"/>
                  <a:pt x="14511" y="11038"/>
                </a:cubicBezTo>
              </a:path>
              <a:path w="2258" h="1068">
                <a:moveTo>
                  <a:pt x="15379" y="10319"/>
                </a:moveTo>
                <a:cubicBezTo>
                  <a:pt x="15256" y="10452"/>
                  <a:pt x="15208" y="10531"/>
                  <a:pt x="15329" y="10666"/>
                </a:cubicBezTo>
                <a:cubicBezTo>
                  <a:pt x="15468" y="10547"/>
                  <a:pt x="15522" y="10467"/>
                  <a:pt x="15429" y="10294"/>
                </a:cubicBezTo>
                <a:cubicBezTo>
                  <a:pt x="15734" y="10294"/>
                  <a:pt x="15845" y="10401"/>
                  <a:pt x="15776" y="10740"/>
                </a:cubicBezTo>
                <a:cubicBezTo>
                  <a:pt x="15710" y="10914"/>
                  <a:pt x="15695" y="10956"/>
                  <a:pt x="15652" y="11063"/>
                </a:cubicBezTo>
              </a:path>
              <a:path w="2258" h="1068">
                <a:moveTo>
                  <a:pt x="15949" y="10740"/>
                </a:moveTo>
                <a:cubicBezTo>
                  <a:pt x="15901" y="10857"/>
                  <a:pt x="15896" y="10837"/>
                  <a:pt x="15974" y="10939"/>
                </a:cubicBezTo>
                <a:cubicBezTo>
                  <a:pt x="16093" y="10876"/>
                  <a:pt x="16231" y="10828"/>
                  <a:pt x="16073" y="107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9040" y="4956120"/>
            <a:ext cx="527040" cy="465120"/>
          </a:xfrm>
          <a:custGeom>
            <a:avLst/>
            <a:gdLst/>
            <a:ahLst/>
            <a:rect l="l" t="t" r="r" b="b"/>
            <a:pathLst>
              <a:path w="1464" h="1290">
                <a:moveTo>
                  <a:pt x="1240" y="14734"/>
                </a:moveTo>
                <a:cubicBezTo>
                  <a:pt x="1161" y="14642"/>
                  <a:pt x="1153" y="14627"/>
                  <a:pt x="1240" y="14536"/>
                </a:cubicBezTo>
                <a:cubicBezTo>
                  <a:pt x="1303" y="14473"/>
                  <a:pt x="1320" y="14464"/>
                  <a:pt x="1339" y="14412"/>
                </a:cubicBezTo>
                <a:cubicBezTo>
                  <a:pt x="1461" y="14633"/>
                  <a:pt x="1463" y="14803"/>
                  <a:pt x="1463" y="15056"/>
                </a:cubicBezTo>
              </a:path>
              <a:path w="1464" h="1290">
                <a:moveTo>
                  <a:pt x="1538" y="14412"/>
                </a:moveTo>
                <a:cubicBezTo>
                  <a:pt x="1538" y="14569"/>
                  <a:pt x="1520" y="14618"/>
                  <a:pt x="1687" y="14660"/>
                </a:cubicBezTo>
                <a:cubicBezTo>
                  <a:pt x="1837" y="14698"/>
                  <a:pt x="1994" y="14806"/>
                  <a:pt x="1836" y="14982"/>
                </a:cubicBezTo>
                <a:cubicBezTo>
                  <a:pt x="1803" y="14999"/>
                  <a:pt x="1769" y="15015"/>
                  <a:pt x="1736" y="15032"/>
                </a:cubicBezTo>
              </a:path>
              <a:path w="1464" h="1290">
                <a:moveTo>
                  <a:pt x="1513" y="14387"/>
                </a:moveTo>
                <a:cubicBezTo>
                  <a:pt x="1604" y="14296"/>
                  <a:pt x="1695" y="14205"/>
                  <a:pt x="1786" y="14114"/>
                </a:cubicBezTo>
              </a:path>
              <a:path w="1464" h="1290">
                <a:moveTo>
                  <a:pt x="2059" y="13866"/>
                </a:moveTo>
                <a:cubicBezTo>
                  <a:pt x="1995" y="14001"/>
                  <a:pt x="1960" y="14041"/>
                  <a:pt x="1984" y="14188"/>
                </a:cubicBezTo>
                <a:cubicBezTo>
                  <a:pt x="2023" y="14049"/>
                  <a:pt x="2030" y="13826"/>
                  <a:pt x="2133" y="13767"/>
                </a:cubicBezTo>
                <a:cubicBezTo>
                  <a:pt x="2344" y="13954"/>
                  <a:pt x="2374" y="14119"/>
                  <a:pt x="2307" y="14412"/>
                </a:cubicBezTo>
                <a:cubicBezTo>
                  <a:pt x="2290" y="14453"/>
                  <a:pt x="2274" y="14495"/>
                  <a:pt x="2257" y="14536"/>
                </a:cubicBezTo>
              </a:path>
              <a:path w="1464" h="1290">
                <a:moveTo>
                  <a:pt x="2456" y="14238"/>
                </a:moveTo>
                <a:cubicBezTo>
                  <a:pt x="2474" y="14339"/>
                  <a:pt x="2601" y="14440"/>
                  <a:pt x="2629" y="14263"/>
                </a:cubicBezTo>
                <a:cubicBezTo>
                  <a:pt x="2607" y="14198"/>
                  <a:pt x="2609" y="14173"/>
                  <a:pt x="2555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00080" y="4741920"/>
            <a:ext cx="108000" cy="241200"/>
          </a:xfrm>
          <a:custGeom>
            <a:avLst/>
            <a:gdLst/>
            <a:ahLst/>
            <a:rect l="l" t="t" r="r" b="b"/>
            <a:pathLst>
              <a:path w="299" h="671">
                <a:moveTo>
                  <a:pt x="2778" y="13295"/>
                </a:moveTo>
                <a:cubicBezTo>
                  <a:pt x="2860" y="13214"/>
                  <a:pt x="3036" y="13074"/>
                  <a:pt x="3076" y="13295"/>
                </a:cubicBezTo>
                <a:cubicBezTo>
                  <a:pt x="3049" y="13427"/>
                  <a:pt x="3040" y="13476"/>
                  <a:pt x="3026" y="13568"/>
                </a:cubicBezTo>
              </a:path>
              <a:path w="299" h="671">
                <a:moveTo>
                  <a:pt x="3076" y="13841"/>
                </a:moveTo>
                <a:lnTo>
                  <a:pt x="3076" y="1384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81800" y="4857840"/>
            <a:ext cx="463320" cy="839520"/>
          </a:xfrm>
          <a:custGeom>
            <a:avLst/>
            <a:gdLst/>
            <a:ahLst/>
            <a:rect l="l" t="t" r="r" b="b"/>
            <a:pathLst>
              <a:path w="1291" h="2332">
                <a:moveTo>
                  <a:pt x="16222" y="13593"/>
                </a:moveTo>
                <a:cubicBezTo>
                  <a:pt x="16192" y="13413"/>
                  <a:pt x="15865" y="13648"/>
                  <a:pt x="15801" y="13692"/>
                </a:cubicBezTo>
                <a:cubicBezTo>
                  <a:pt x="15768" y="13725"/>
                  <a:pt x="15734" y="13758"/>
                  <a:pt x="15701" y="13791"/>
                </a:cubicBezTo>
                <a:cubicBezTo>
                  <a:pt x="15831" y="13878"/>
                  <a:pt x="16339" y="14055"/>
                  <a:pt x="16123" y="14288"/>
                </a:cubicBezTo>
                <a:cubicBezTo>
                  <a:pt x="15966" y="14355"/>
                  <a:pt x="15925" y="14386"/>
                  <a:pt x="15825" y="14312"/>
                </a:cubicBezTo>
                <a:cubicBezTo>
                  <a:pt x="15847" y="14031"/>
                  <a:pt x="15990" y="13809"/>
                  <a:pt x="16123" y="13543"/>
                </a:cubicBezTo>
                <a:cubicBezTo>
                  <a:pt x="16131" y="13527"/>
                  <a:pt x="16140" y="13510"/>
                  <a:pt x="16148" y="13494"/>
                </a:cubicBezTo>
              </a:path>
              <a:path w="1291" h="2332">
                <a:moveTo>
                  <a:pt x="15503" y="14610"/>
                </a:moveTo>
                <a:cubicBezTo>
                  <a:pt x="15870" y="14579"/>
                  <a:pt x="16250" y="14542"/>
                  <a:pt x="16619" y="14560"/>
                </a:cubicBezTo>
                <a:cubicBezTo>
                  <a:pt x="16677" y="14568"/>
                  <a:pt x="16735" y="14577"/>
                  <a:pt x="16793" y="14585"/>
                </a:cubicBezTo>
              </a:path>
              <a:path w="1291" h="2332">
                <a:moveTo>
                  <a:pt x="15726" y="15156"/>
                </a:moveTo>
                <a:cubicBezTo>
                  <a:pt x="15692" y="15358"/>
                  <a:pt x="15726" y="15608"/>
                  <a:pt x="15726" y="15825"/>
                </a:cubicBezTo>
              </a:path>
              <a:path w="1291" h="2332">
                <a:moveTo>
                  <a:pt x="16173" y="15180"/>
                </a:moveTo>
                <a:cubicBezTo>
                  <a:pt x="16344" y="15124"/>
                  <a:pt x="16565" y="15167"/>
                  <a:pt x="16545" y="15429"/>
                </a:cubicBezTo>
                <a:cubicBezTo>
                  <a:pt x="16527" y="15658"/>
                  <a:pt x="16390" y="15708"/>
                  <a:pt x="16222" y="15776"/>
                </a:cubicBezTo>
                <a:cubicBezTo>
                  <a:pt x="16180" y="15573"/>
                  <a:pt x="16228" y="15451"/>
                  <a:pt x="16470" y="15553"/>
                </a:cubicBezTo>
                <a:cubicBezTo>
                  <a:pt x="16588" y="15624"/>
                  <a:pt x="16624" y="15644"/>
                  <a:pt x="16694" y="157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1120" y="5537160"/>
            <a:ext cx="598680" cy="544680"/>
          </a:xfrm>
          <a:custGeom>
            <a:avLst/>
            <a:gdLst/>
            <a:ahLst/>
            <a:rect l="l" t="t" r="r" b="b"/>
            <a:pathLst>
              <a:path w="1663" h="1514">
                <a:moveTo>
                  <a:pt x="1141" y="16222"/>
                </a:moveTo>
                <a:cubicBezTo>
                  <a:pt x="1215" y="16420"/>
                  <a:pt x="1289" y="16606"/>
                  <a:pt x="1315" y="16818"/>
                </a:cubicBezTo>
                <a:cubicBezTo>
                  <a:pt x="1315" y="16843"/>
                  <a:pt x="1315" y="16867"/>
                  <a:pt x="1315" y="16892"/>
                </a:cubicBezTo>
                <a:cubicBezTo>
                  <a:pt x="1330" y="16875"/>
                  <a:pt x="1571" y="16482"/>
                  <a:pt x="1414" y="16495"/>
                </a:cubicBezTo>
                <a:cubicBezTo>
                  <a:pt x="1287" y="16505"/>
                  <a:pt x="1358" y="16759"/>
                  <a:pt x="1364" y="16818"/>
                </a:cubicBezTo>
              </a:path>
              <a:path w="1663" h="1514">
                <a:moveTo>
                  <a:pt x="1364" y="16123"/>
                </a:moveTo>
                <a:cubicBezTo>
                  <a:pt x="1393" y="16295"/>
                  <a:pt x="1477" y="16505"/>
                  <a:pt x="1588" y="16644"/>
                </a:cubicBezTo>
                <a:cubicBezTo>
                  <a:pt x="1613" y="16661"/>
                  <a:pt x="1637" y="16677"/>
                  <a:pt x="1662" y="16694"/>
                </a:cubicBezTo>
                <a:cubicBezTo>
                  <a:pt x="1716" y="16647"/>
                  <a:pt x="1855" y="16284"/>
                  <a:pt x="1712" y="16297"/>
                </a:cubicBezTo>
                <a:cubicBezTo>
                  <a:pt x="1593" y="16308"/>
                  <a:pt x="1777" y="16604"/>
                  <a:pt x="1786" y="16619"/>
                </a:cubicBezTo>
              </a:path>
              <a:path w="1663" h="1514">
                <a:moveTo>
                  <a:pt x="1935" y="16297"/>
                </a:moveTo>
                <a:lnTo>
                  <a:pt x="1935" y="16297"/>
                </a:lnTo>
              </a:path>
              <a:path w="1663" h="1514">
                <a:moveTo>
                  <a:pt x="1662" y="15999"/>
                </a:moveTo>
                <a:cubicBezTo>
                  <a:pt x="1677" y="15912"/>
                  <a:pt x="1707" y="15776"/>
                  <a:pt x="1811" y="15751"/>
                </a:cubicBezTo>
                <a:cubicBezTo>
                  <a:pt x="1897" y="15731"/>
                  <a:pt x="1860" y="15883"/>
                  <a:pt x="1860" y="15925"/>
                </a:cubicBezTo>
                <a:cubicBezTo>
                  <a:pt x="1945" y="15868"/>
                  <a:pt x="1982" y="15854"/>
                  <a:pt x="2059" y="15900"/>
                </a:cubicBezTo>
                <a:cubicBezTo>
                  <a:pt x="2079" y="16047"/>
                  <a:pt x="2095" y="16220"/>
                  <a:pt x="1910" y="16123"/>
                </a:cubicBezTo>
                <a:cubicBezTo>
                  <a:pt x="1885" y="16106"/>
                  <a:pt x="1861" y="16090"/>
                  <a:pt x="1836" y="16073"/>
                </a:cubicBezTo>
              </a:path>
              <a:path w="1663" h="1514">
                <a:moveTo>
                  <a:pt x="2059" y="15379"/>
                </a:moveTo>
                <a:cubicBezTo>
                  <a:pt x="2120" y="15649"/>
                  <a:pt x="2176" y="15922"/>
                  <a:pt x="2208" y="16197"/>
                </a:cubicBezTo>
                <a:cubicBezTo>
                  <a:pt x="2208" y="16214"/>
                  <a:pt x="2208" y="16230"/>
                  <a:pt x="2208" y="16247"/>
                </a:cubicBezTo>
              </a:path>
              <a:path w="1663" h="1514">
                <a:moveTo>
                  <a:pt x="1836" y="15875"/>
                </a:moveTo>
                <a:cubicBezTo>
                  <a:pt x="1811" y="15936"/>
                  <a:pt x="1805" y="16017"/>
                  <a:pt x="1786" y="15925"/>
                </a:cubicBezTo>
                <a:cubicBezTo>
                  <a:pt x="1832" y="15820"/>
                  <a:pt x="1968" y="15795"/>
                  <a:pt x="2059" y="15925"/>
                </a:cubicBezTo>
                <a:cubicBezTo>
                  <a:pt x="2139" y="16039"/>
                  <a:pt x="2081" y="16078"/>
                  <a:pt x="2009" y="16098"/>
                </a:cubicBezTo>
                <a:cubicBezTo>
                  <a:pt x="1997" y="15998"/>
                  <a:pt x="2175" y="15956"/>
                  <a:pt x="2332" y="15925"/>
                </a:cubicBezTo>
                <a:cubicBezTo>
                  <a:pt x="2357" y="15925"/>
                  <a:pt x="2381" y="15925"/>
                  <a:pt x="2406" y="15925"/>
                </a:cubicBezTo>
              </a:path>
              <a:path w="1663" h="1514">
                <a:moveTo>
                  <a:pt x="2456" y="15825"/>
                </a:moveTo>
                <a:cubicBezTo>
                  <a:pt x="2475" y="15767"/>
                  <a:pt x="2581" y="15619"/>
                  <a:pt x="2654" y="15726"/>
                </a:cubicBezTo>
                <a:cubicBezTo>
                  <a:pt x="2681" y="15833"/>
                  <a:pt x="2688" y="15874"/>
                  <a:pt x="2654" y="15949"/>
                </a:cubicBezTo>
                <a:cubicBezTo>
                  <a:pt x="2626" y="15978"/>
                  <a:pt x="2776" y="15860"/>
                  <a:pt x="2803" y="16049"/>
                </a:cubicBezTo>
                <a:cubicBezTo>
                  <a:pt x="2829" y="16232"/>
                  <a:pt x="2564" y="16181"/>
                  <a:pt x="2480" y="16173"/>
                </a:cubicBezTo>
              </a:path>
              <a:path w="1663" h="1514">
                <a:moveTo>
                  <a:pt x="2059" y="15503"/>
                </a:moveTo>
                <a:cubicBezTo>
                  <a:pt x="2107" y="15792"/>
                  <a:pt x="2171" y="16081"/>
                  <a:pt x="2208" y="16371"/>
                </a:cubicBezTo>
                <a:cubicBezTo>
                  <a:pt x="2208" y="16388"/>
                  <a:pt x="2208" y="16404"/>
                  <a:pt x="2208" y="164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19920" y="4902120"/>
            <a:ext cx="1295280" cy="509760"/>
          </a:xfrm>
          <a:custGeom>
            <a:avLst/>
            <a:gdLst/>
            <a:ahLst/>
            <a:rect l="l" t="t" r="r" b="b"/>
            <a:pathLst>
              <a:path w="3597" h="1415">
                <a:moveTo>
                  <a:pt x="21307" y="13866"/>
                </a:moveTo>
                <a:cubicBezTo>
                  <a:pt x="21178" y="13924"/>
                  <a:pt x="21076" y="13982"/>
                  <a:pt x="20960" y="14064"/>
                </a:cubicBezTo>
                <a:cubicBezTo>
                  <a:pt x="21047" y="14195"/>
                  <a:pt x="21401" y="14243"/>
                  <a:pt x="21357" y="14486"/>
                </a:cubicBezTo>
                <a:cubicBezTo>
                  <a:pt x="21238" y="14653"/>
                  <a:pt x="21204" y="14708"/>
                  <a:pt x="21059" y="14734"/>
                </a:cubicBezTo>
                <a:cubicBezTo>
                  <a:pt x="21050" y="14485"/>
                  <a:pt x="21401" y="14109"/>
                  <a:pt x="21357" y="13915"/>
                </a:cubicBezTo>
                <a:cubicBezTo>
                  <a:pt x="21324" y="13907"/>
                  <a:pt x="21291" y="13899"/>
                  <a:pt x="21258" y="13891"/>
                </a:cubicBezTo>
              </a:path>
              <a:path w="3597" h="1415">
                <a:moveTo>
                  <a:pt x="20613" y="14982"/>
                </a:moveTo>
                <a:cubicBezTo>
                  <a:pt x="20631" y="14710"/>
                  <a:pt x="20665" y="14436"/>
                  <a:pt x="20613" y="14163"/>
                </a:cubicBezTo>
                <a:cubicBezTo>
                  <a:pt x="20554" y="13986"/>
                  <a:pt x="20556" y="13953"/>
                  <a:pt x="20489" y="13866"/>
                </a:cubicBezTo>
                <a:cubicBezTo>
                  <a:pt x="20827" y="13639"/>
                  <a:pt x="21275" y="13677"/>
                  <a:pt x="21679" y="13667"/>
                </a:cubicBezTo>
                <a:cubicBezTo>
                  <a:pt x="22054" y="13658"/>
                  <a:pt x="22423" y="13633"/>
                  <a:pt x="22796" y="13618"/>
                </a:cubicBezTo>
                <a:cubicBezTo>
                  <a:pt x="22804" y="13618"/>
                  <a:pt x="22812" y="13618"/>
                  <a:pt x="22820" y="13618"/>
                </a:cubicBezTo>
              </a:path>
              <a:path w="3597" h="1415">
                <a:moveTo>
                  <a:pt x="19298" y="14213"/>
                </a:moveTo>
                <a:cubicBezTo>
                  <a:pt x="19271" y="14429"/>
                  <a:pt x="19236" y="14659"/>
                  <a:pt x="19224" y="14883"/>
                </a:cubicBezTo>
                <a:cubicBezTo>
                  <a:pt x="19224" y="14933"/>
                  <a:pt x="19224" y="14982"/>
                  <a:pt x="19224" y="15032"/>
                </a:cubicBezTo>
              </a:path>
              <a:path w="3597" h="1415">
                <a:moveTo>
                  <a:pt x="19670" y="14188"/>
                </a:moveTo>
                <a:cubicBezTo>
                  <a:pt x="19902" y="14080"/>
                  <a:pt x="20017" y="14200"/>
                  <a:pt x="19968" y="14486"/>
                </a:cubicBezTo>
                <a:cubicBezTo>
                  <a:pt x="19930" y="14705"/>
                  <a:pt x="19754" y="14884"/>
                  <a:pt x="19571" y="14784"/>
                </a:cubicBezTo>
                <a:cubicBezTo>
                  <a:pt x="19660" y="14616"/>
                  <a:pt x="19853" y="14494"/>
                  <a:pt x="20017" y="14709"/>
                </a:cubicBezTo>
                <a:cubicBezTo>
                  <a:pt x="20058" y="14832"/>
                  <a:pt x="20075" y="14854"/>
                  <a:pt x="20067" y="149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46960" y="4483080"/>
            <a:ext cx="812880" cy="1438200"/>
          </a:xfrm>
          <a:custGeom>
            <a:avLst/>
            <a:gdLst/>
            <a:ahLst/>
            <a:rect l="l" t="t" r="r" b="b"/>
            <a:pathLst>
              <a:path w="2258" h="3995">
                <a:moveTo>
                  <a:pt x="21605" y="14610"/>
                </a:moveTo>
                <a:cubicBezTo>
                  <a:pt x="21555" y="14560"/>
                  <a:pt x="21563" y="14619"/>
                  <a:pt x="21555" y="14660"/>
                </a:cubicBezTo>
              </a:path>
              <a:path w="2258" h="3995">
                <a:moveTo>
                  <a:pt x="21605" y="13444"/>
                </a:moveTo>
                <a:cubicBezTo>
                  <a:pt x="21601" y="13440"/>
                  <a:pt x="21513" y="13547"/>
                  <a:pt x="21630" y="13469"/>
                </a:cubicBezTo>
              </a:path>
              <a:path w="2258" h="3995">
                <a:moveTo>
                  <a:pt x="22051" y="14015"/>
                </a:moveTo>
                <a:cubicBezTo>
                  <a:pt x="21897" y="14049"/>
                  <a:pt x="21825" y="14144"/>
                  <a:pt x="21803" y="14312"/>
                </a:cubicBezTo>
                <a:cubicBezTo>
                  <a:pt x="21803" y="14511"/>
                  <a:pt x="21799" y="14562"/>
                  <a:pt x="21828" y="14684"/>
                </a:cubicBezTo>
                <a:cubicBezTo>
                  <a:pt x="22066" y="14711"/>
                  <a:pt x="22291" y="14485"/>
                  <a:pt x="22200" y="14188"/>
                </a:cubicBezTo>
                <a:cubicBezTo>
                  <a:pt x="22100" y="14113"/>
                  <a:pt x="22066" y="14089"/>
                  <a:pt x="21977" y="14089"/>
                </a:cubicBezTo>
              </a:path>
              <a:path w="2258" h="3995">
                <a:moveTo>
                  <a:pt x="21630" y="14560"/>
                </a:moveTo>
                <a:cubicBezTo>
                  <a:pt x="21529" y="14762"/>
                  <a:pt x="21656" y="14627"/>
                  <a:pt x="21605" y="14610"/>
                </a:cubicBezTo>
              </a:path>
              <a:path w="2258" h="3995">
                <a:moveTo>
                  <a:pt x="21580" y="13469"/>
                </a:moveTo>
                <a:cubicBezTo>
                  <a:pt x="21541" y="13450"/>
                  <a:pt x="21520" y="13545"/>
                  <a:pt x="21605" y="13444"/>
                </a:cubicBezTo>
              </a:path>
              <a:path w="2258" h="3995">
                <a:moveTo>
                  <a:pt x="21927" y="12725"/>
                </a:moveTo>
                <a:cubicBezTo>
                  <a:pt x="21856" y="12869"/>
                  <a:pt x="21795" y="13015"/>
                  <a:pt x="21754" y="13171"/>
                </a:cubicBezTo>
                <a:cubicBezTo>
                  <a:pt x="21728" y="13267"/>
                  <a:pt x="21732" y="13395"/>
                  <a:pt x="21878" y="13395"/>
                </a:cubicBezTo>
                <a:cubicBezTo>
                  <a:pt x="21989" y="13395"/>
                  <a:pt x="22160" y="13226"/>
                  <a:pt x="22225" y="13146"/>
                </a:cubicBezTo>
                <a:cubicBezTo>
                  <a:pt x="22250" y="13097"/>
                  <a:pt x="22259" y="13080"/>
                  <a:pt x="22275" y="13047"/>
                </a:cubicBezTo>
                <a:cubicBezTo>
                  <a:pt x="22204" y="13001"/>
                  <a:pt x="22117" y="12952"/>
                  <a:pt x="22051" y="13047"/>
                </a:cubicBezTo>
                <a:cubicBezTo>
                  <a:pt x="21985" y="13143"/>
                  <a:pt x="22002" y="13237"/>
                  <a:pt x="22002" y="13345"/>
                </a:cubicBezTo>
              </a:path>
              <a:path w="2258" h="3995">
                <a:moveTo>
                  <a:pt x="21084" y="14932"/>
                </a:moveTo>
                <a:cubicBezTo>
                  <a:pt x="21201" y="14899"/>
                  <a:pt x="21319" y="14878"/>
                  <a:pt x="21431" y="14833"/>
                </a:cubicBezTo>
                <a:cubicBezTo>
                  <a:pt x="21332" y="15030"/>
                  <a:pt x="21238" y="15224"/>
                  <a:pt x="21158" y="15429"/>
                </a:cubicBezTo>
              </a:path>
              <a:path w="2258" h="3995">
                <a:moveTo>
                  <a:pt x="21853" y="15106"/>
                </a:moveTo>
                <a:cubicBezTo>
                  <a:pt x="21877" y="15011"/>
                  <a:pt x="21882" y="14981"/>
                  <a:pt x="21952" y="14957"/>
                </a:cubicBezTo>
                <a:cubicBezTo>
                  <a:pt x="22071" y="15017"/>
                  <a:pt x="21923" y="15220"/>
                  <a:pt x="21878" y="15304"/>
                </a:cubicBezTo>
                <a:cubicBezTo>
                  <a:pt x="21746" y="15553"/>
                  <a:pt x="21719" y="15430"/>
                  <a:pt x="21903" y="15354"/>
                </a:cubicBezTo>
                <a:cubicBezTo>
                  <a:pt x="22008" y="15311"/>
                  <a:pt x="22047" y="15326"/>
                  <a:pt x="22126" y="15379"/>
                </a:cubicBezTo>
              </a:path>
              <a:path w="2258" h="3995">
                <a:moveTo>
                  <a:pt x="20687" y="15677"/>
                </a:moveTo>
                <a:cubicBezTo>
                  <a:pt x="20880" y="15600"/>
                  <a:pt x="21101" y="15618"/>
                  <a:pt x="21307" y="15627"/>
                </a:cubicBezTo>
                <a:cubicBezTo>
                  <a:pt x="21673" y="15643"/>
                  <a:pt x="22032" y="15677"/>
                  <a:pt x="22399" y="15677"/>
                </a:cubicBezTo>
                <a:cubicBezTo>
                  <a:pt x="22407" y="15677"/>
                  <a:pt x="22415" y="15677"/>
                  <a:pt x="22423" y="15677"/>
                </a:cubicBezTo>
              </a:path>
              <a:path w="2258" h="3995">
                <a:moveTo>
                  <a:pt x="22051" y="15925"/>
                </a:moveTo>
                <a:cubicBezTo>
                  <a:pt x="21871" y="15943"/>
                  <a:pt x="21791" y="15976"/>
                  <a:pt x="21654" y="16098"/>
                </a:cubicBezTo>
                <a:cubicBezTo>
                  <a:pt x="21736" y="16261"/>
                  <a:pt x="21880" y="16207"/>
                  <a:pt x="22027" y="16272"/>
                </a:cubicBezTo>
                <a:cubicBezTo>
                  <a:pt x="22068" y="16313"/>
                  <a:pt x="22092" y="16321"/>
                  <a:pt x="22051" y="16346"/>
                </a:cubicBezTo>
                <a:cubicBezTo>
                  <a:pt x="22025" y="16366"/>
                  <a:pt x="21803" y="16547"/>
                  <a:pt x="21803" y="16396"/>
                </a:cubicBezTo>
                <a:cubicBezTo>
                  <a:pt x="21803" y="16247"/>
                  <a:pt x="21906" y="16118"/>
                  <a:pt x="21977" y="15999"/>
                </a:cubicBezTo>
              </a:path>
              <a:path w="2258" h="3995">
                <a:moveTo>
                  <a:pt x="22622" y="14089"/>
                </a:moveTo>
                <a:cubicBezTo>
                  <a:pt x="22622" y="14081"/>
                  <a:pt x="22622" y="14072"/>
                  <a:pt x="22622" y="14064"/>
                </a:cubicBezTo>
                <a:cubicBezTo>
                  <a:pt x="22434" y="13980"/>
                  <a:pt x="22386" y="14208"/>
                  <a:pt x="22399" y="14387"/>
                </a:cubicBezTo>
                <a:cubicBezTo>
                  <a:pt x="22444" y="14501"/>
                  <a:pt x="22450" y="14540"/>
                  <a:pt x="22547" y="14536"/>
                </a:cubicBezTo>
                <a:cubicBezTo>
                  <a:pt x="22646" y="14444"/>
                  <a:pt x="22872" y="14149"/>
                  <a:pt x="22622" y="14039"/>
                </a:cubicBezTo>
                <a:cubicBezTo>
                  <a:pt x="22597" y="14047"/>
                  <a:pt x="22572" y="14056"/>
                  <a:pt x="22547" y="14064"/>
                </a:cubicBezTo>
              </a:path>
              <a:path w="2258" h="3995">
                <a:moveTo>
                  <a:pt x="22547" y="14585"/>
                </a:moveTo>
                <a:cubicBezTo>
                  <a:pt x="22547" y="14495"/>
                  <a:pt x="22527" y="15128"/>
                  <a:pt x="22523" y="15180"/>
                </a:cubicBezTo>
                <a:cubicBezTo>
                  <a:pt x="22503" y="15379"/>
                  <a:pt x="22495" y="15411"/>
                  <a:pt x="22498" y="15528"/>
                </a:cubicBezTo>
              </a:path>
              <a:path w="2258" h="3995">
                <a:moveTo>
                  <a:pt x="22473" y="15776"/>
                </a:moveTo>
                <a:cubicBezTo>
                  <a:pt x="22328" y="15834"/>
                  <a:pt x="22250" y="15977"/>
                  <a:pt x="22250" y="16148"/>
                </a:cubicBezTo>
                <a:cubicBezTo>
                  <a:pt x="22258" y="16164"/>
                  <a:pt x="22267" y="16181"/>
                  <a:pt x="22275" y="16197"/>
                </a:cubicBezTo>
                <a:cubicBezTo>
                  <a:pt x="22374" y="16168"/>
                  <a:pt x="22652" y="16050"/>
                  <a:pt x="22572" y="15875"/>
                </a:cubicBezTo>
                <a:cubicBezTo>
                  <a:pt x="22529" y="15781"/>
                  <a:pt x="22411" y="15834"/>
                  <a:pt x="22349" y="15850"/>
                </a:cubicBezTo>
              </a:path>
              <a:path w="2258" h="3995">
                <a:moveTo>
                  <a:pt x="22547" y="12750"/>
                </a:moveTo>
                <a:cubicBezTo>
                  <a:pt x="22490" y="12840"/>
                  <a:pt x="22458" y="12916"/>
                  <a:pt x="22448" y="13022"/>
                </a:cubicBezTo>
                <a:cubicBezTo>
                  <a:pt x="22443" y="13077"/>
                  <a:pt x="22415" y="13278"/>
                  <a:pt x="22473" y="13320"/>
                </a:cubicBezTo>
                <a:cubicBezTo>
                  <a:pt x="22557" y="13381"/>
                  <a:pt x="22638" y="13315"/>
                  <a:pt x="22721" y="13295"/>
                </a:cubicBezTo>
                <a:cubicBezTo>
                  <a:pt x="22824" y="13271"/>
                  <a:pt x="22866" y="13241"/>
                  <a:pt x="22920" y="13146"/>
                </a:cubicBezTo>
                <a:cubicBezTo>
                  <a:pt x="22928" y="13130"/>
                  <a:pt x="22936" y="13113"/>
                  <a:pt x="22944" y="13097"/>
                </a:cubicBezTo>
                <a:cubicBezTo>
                  <a:pt x="22864" y="13043"/>
                  <a:pt x="22796" y="13000"/>
                  <a:pt x="22746" y="13122"/>
                </a:cubicBezTo>
                <a:cubicBezTo>
                  <a:pt x="22715" y="13197"/>
                  <a:pt x="22721" y="13267"/>
                  <a:pt x="22721" y="13345"/>
                </a:cubicBezTo>
              </a:path>
              <a:path w="2258" h="3995">
                <a:moveTo>
                  <a:pt x="22423" y="12502"/>
                </a:moveTo>
                <a:cubicBezTo>
                  <a:pt x="22446" y="12493"/>
                  <a:pt x="22803" y="12435"/>
                  <a:pt x="22796" y="12452"/>
                </a:cubicBezTo>
                <a:cubicBezTo>
                  <a:pt x="22774" y="12506"/>
                  <a:pt x="22540" y="12477"/>
                  <a:pt x="22498" y="12477"/>
                </a:cubicBezTo>
                <a:cubicBezTo>
                  <a:pt x="22481" y="12477"/>
                  <a:pt x="22465" y="12477"/>
                  <a:pt x="22448" y="12477"/>
                </a:cubicBezTo>
                <a:cubicBezTo>
                  <a:pt x="22559" y="12477"/>
                  <a:pt x="22661" y="12496"/>
                  <a:pt x="22771" y="12502"/>
                </a:cubicBezTo>
                <a:cubicBezTo>
                  <a:pt x="22779" y="12502"/>
                  <a:pt x="22788" y="12502"/>
                  <a:pt x="22796" y="125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41840" y="5823000"/>
            <a:ext cx="849240" cy="411120"/>
          </a:xfrm>
          <a:custGeom>
            <a:avLst/>
            <a:gdLst/>
            <a:ahLst/>
            <a:rect l="l" t="t" r="r" b="b"/>
            <a:pathLst>
              <a:path w="2358" h="1142">
                <a:moveTo>
                  <a:pt x="10641" y="16297"/>
                </a:moveTo>
                <a:cubicBezTo>
                  <a:pt x="10580" y="16520"/>
                  <a:pt x="10509" y="16743"/>
                  <a:pt x="10443" y="16966"/>
                </a:cubicBezTo>
                <a:cubicBezTo>
                  <a:pt x="10398" y="17122"/>
                  <a:pt x="10382" y="17161"/>
                  <a:pt x="10393" y="17264"/>
                </a:cubicBezTo>
                <a:cubicBezTo>
                  <a:pt x="10613" y="17283"/>
                  <a:pt x="10905" y="17207"/>
                  <a:pt x="11038" y="16966"/>
                </a:cubicBezTo>
                <a:cubicBezTo>
                  <a:pt x="11038" y="16881"/>
                  <a:pt x="11051" y="16855"/>
                  <a:pt x="10988" y="16842"/>
                </a:cubicBezTo>
                <a:cubicBezTo>
                  <a:pt x="10783" y="16934"/>
                  <a:pt x="10722" y="17005"/>
                  <a:pt x="10691" y="17239"/>
                </a:cubicBezTo>
              </a:path>
              <a:path w="2358" h="1142">
                <a:moveTo>
                  <a:pt x="11311" y="16346"/>
                </a:moveTo>
                <a:cubicBezTo>
                  <a:pt x="11244" y="16555"/>
                  <a:pt x="11112" y="16791"/>
                  <a:pt x="11112" y="17016"/>
                </a:cubicBezTo>
                <a:cubicBezTo>
                  <a:pt x="11120" y="17049"/>
                  <a:pt x="11129" y="17082"/>
                  <a:pt x="11137" y="17115"/>
                </a:cubicBezTo>
                <a:cubicBezTo>
                  <a:pt x="11356" y="17103"/>
                  <a:pt x="11510" y="17065"/>
                  <a:pt x="11609" y="16842"/>
                </a:cubicBezTo>
                <a:cubicBezTo>
                  <a:pt x="11617" y="16801"/>
                  <a:pt x="11625" y="16759"/>
                  <a:pt x="11633" y="16718"/>
                </a:cubicBezTo>
                <a:cubicBezTo>
                  <a:pt x="11413" y="16687"/>
                  <a:pt x="11385" y="16784"/>
                  <a:pt x="11311" y="16991"/>
                </a:cubicBezTo>
                <a:cubicBezTo>
                  <a:pt x="11290" y="17097"/>
                  <a:pt x="11268" y="17125"/>
                  <a:pt x="11336" y="17165"/>
                </a:cubicBezTo>
              </a:path>
              <a:path w="2358" h="1142">
                <a:moveTo>
                  <a:pt x="11981" y="16247"/>
                </a:moveTo>
                <a:cubicBezTo>
                  <a:pt x="11890" y="16293"/>
                  <a:pt x="11853" y="16469"/>
                  <a:pt x="11906" y="16570"/>
                </a:cubicBezTo>
                <a:cubicBezTo>
                  <a:pt x="11931" y="16586"/>
                  <a:pt x="11956" y="16603"/>
                  <a:pt x="11981" y="16619"/>
                </a:cubicBezTo>
                <a:cubicBezTo>
                  <a:pt x="12146" y="16501"/>
                  <a:pt x="12169" y="16437"/>
                  <a:pt x="11981" y="16321"/>
                </a:cubicBezTo>
                <a:cubicBezTo>
                  <a:pt x="11964" y="16313"/>
                  <a:pt x="11948" y="16305"/>
                  <a:pt x="11931" y="16297"/>
                </a:cubicBezTo>
                <a:cubicBezTo>
                  <a:pt x="12084" y="16191"/>
                  <a:pt x="12347" y="16059"/>
                  <a:pt x="12427" y="16346"/>
                </a:cubicBezTo>
                <a:cubicBezTo>
                  <a:pt x="12498" y="16600"/>
                  <a:pt x="12305" y="16818"/>
                  <a:pt x="12154" y="16991"/>
                </a:cubicBezTo>
              </a:path>
              <a:path w="2358" h="1142">
                <a:moveTo>
                  <a:pt x="12626" y="16768"/>
                </a:moveTo>
                <a:cubicBezTo>
                  <a:pt x="12575" y="16869"/>
                  <a:pt x="12541" y="16916"/>
                  <a:pt x="12551" y="17016"/>
                </a:cubicBezTo>
                <a:cubicBezTo>
                  <a:pt x="12592" y="17006"/>
                  <a:pt x="12868" y="16853"/>
                  <a:pt x="12750" y="16768"/>
                </a:cubicBezTo>
                <a:cubicBezTo>
                  <a:pt x="12706" y="16737"/>
                  <a:pt x="12577" y="16787"/>
                  <a:pt x="12526" y="167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rite fractions as decimals and percents, and vice 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nvert decimals to percents you multiply a decimal by 100 to find the parts of 100 ….  Shortcut …. Move the decimal 2 spaces to the right and add a % symb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4267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82 = 8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81240" y="4581360"/>
            <a:ext cx="436680" cy="177840"/>
          </a:xfrm>
          <a:custGeom>
            <a:avLst/>
            <a:gdLst/>
            <a:ahLst/>
            <a:rect l="l" t="t" r="r" b="b"/>
            <a:pathLst>
              <a:path w="1216" h="497">
                <a:moveTo>
                  <a:pt x="8607" y="12799"/>
                </a:moveTo>
                <a:cubicBezTo>
                  <a:pt x="8593" y="12771"/>
                  <a:pt x="8612" y="12768"/>
                  <a:pt x="8558" y="12824"/>
                </a:cubicBezTo>
                <a:cubicBezTo>
                  <a:pt x="8573" y="12832"/>
                  <a:pt x="8632" y="12837"/>
                  <a:pt x="8558" y="12799"/>
                </a:cubicBezTo>
              </a:path>
              <a:path w="1216" h="497">
                <a:moveTo>
                  <a:pt x="8682" y="12849"/>
                </a:moveTo>
                <a:cubicBezTo>
                  <a:pt x="8598" y="12828"/>
                  <a:pt x="8646" y="12895"/>
                  <a:pt x="8657" y="12948"/>
                </a:cubicBezTo>
                <a:cubicBezTo>
                  <a:pt x="8672" y="13025"/>
                  <a:pt x="8715" y="13085"/>
                  <a:pt x="8806" y="13097"/>
                </a:cubicBezTo>
                <a:cubicBezTo>
                  <a:pt x="8886" y="13107"/>
                  <a:pt x="8935" y="13082"/>
                  <a:pt x="9004" y="13047"/>
                </a:cubicBezTo>
                <a:cubicBezTo>
                  <a:pt x="9073" y="13012"/>
                  <a:pt x="9135" y="12947"/>
                  <a:pt x="9153" y="12874"/>
                </a:cubicBezTo>
                <a:cubicBezTo>
                  <a:pt x="9153" y="12857"/>
                  <a:pt x="9153" y="12841"/>
                  <a:pt x="9153" y="12824"/>
                </a:cubicBezTo>
                <a:cubicBezTo>
                  <a:pt x="9127" y="12894"/>
                  <a:pt x="9128" y="12946"/>
                  <a:pt x="9128" y="13022"/>
                </a:cubicBezTo>
                <a:cubicBezTo>
                  <a:pt x="9128" y="13089"/>
                  <a:pt x="9184" y="13128"/>
                  <a:pt x="9227" y="13171"/>
                </a:cubicBezTo>
                <a:cubicBezTo>
                  <a:pt x="9310" y="13254"/>
                  <a:pt x="9332" y="13202"/>
                  <a:pt x="9426" y="13196"/>
                </a:cubicBezTo>
                <a:cubicBezTo>
                  <a:pt x="9496" y="13191"/>
                  <a:pt x="9564" y="13193"/>
                  <a:pt x="9624" y="13146"/>
                </a:cubicBezTo>
                <a:cubicBezTo>
                  <a:pt x="9689" y="13095"/>
                  <a:pt x="9744" y="13007"/>
                  <a:pt x="9748" y="12923"/>
                </a:cubicBezTo>
                <a:cubicBezTo>
                  <a:pt x="9752" y="12847"/>
                  <a:pt x="9759" y="12796"/>
                  <a:pt x="9773" y="12725"/>
                </a:cubicBezTo>
              </a:path>
              <a:path w="1216" h="497">
                <a:moveTo>
                  <a:pt x="8682" y="12874"/>
                </a:moveTo>
                <a:cubicBezTo>
                  <a:pt x="8688" y="12941"/>
                  <a:pt x="8700" y="13045"/>
                  <a:pt x="8756" y="13097"/>
                </a:cubicBezTo>
                <a:cubicBezTo>
                  <a:pt x="8791" y="13129"/>
                  <a:pt x="8856" y="13162"/>
                  <a:pt x="8905" y="13146"/>
                </a:cubicBezTo>
                <a:cubicBezTo>
                  <a:pt x="8975" y="13123"/>
                  <a:pt x="9035" y="13106"/>
                  <a:pt x="9103" y="13072"/>
                </a:cubicBezTo>
                <a:cubicBezTo>
                  <a:pt x="9160" y="13043"/>
                  <a:pt x="9199" y="13018"/>
                  <a:pt x="9203" y="12948"/>
                </a:cubicBezTo>
                <a:cubicBezTo>
                  <a:pt x="9207" y="12873"/>
                  <a:pt x="9178" y="12824"/>
                  <a:pt x="9178" y="127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27280" y="4759200"/>
            <a:ext cx="955800" cy="822600"/>
          </a:xfrm>
          <a:custGeom>
            <a:avLst/>
            <a:gdLst/>
            <a:ahLst/>
            <a:rect l="l" t="t" r="r" b="b"/>
            <a:pathLst>
              <a:path w="2655" h="2283">
                <a:moveTo>
                  <a:pt x="10071" y="14412"/>
                </a:moveTo>
                <a:cubicBezTo>
                  <a:pt x="10061" y="14407"/>
                  <a:pt x="9879" y="14531"/>
                  <a:pt x="9798" y="14684"/>
                </a:cubicBezTo>
                <a:cubicBezTo>
                  <a:pt x="9977" y="14799"/>
                  <a:pt x="10347" y="14935"/>
                  <a:pt x="10120" y="15205"/>
                </a:cubicBezTo>
                <a:cubicBezTo>
                  <a:pt x="10079" y="15222"/>
                  <a:pt x="10037" y="15238"/>
                  <a:pt x="9996" y="15255"/>
                </a:cubicBezTo>
                <a:cubicBezTo>
                  <a:pt x="9936" y="15044"/>
                  <a:pt x="10061" y="14845"/>
                  <a:pt x="10170" y="14635"/>
                </a:cubicBezTo>
              </a:path>
              <a:path w="2655" h="2283">
                <a:moveTo>
                  <a:pt x="10418" y="14461"/>
                </a:moveTo>
                <a:cubicBezTo>
                  <a:pt x="10418" y="14453"/>
                  <a:pt x="10418" y="14444"/>
                  <a:pt x="10418" y="14436"/>
                </a:cubicBezTo>
                <a:cubicBezTo>
                  <a:pt x="10709" y="14391"/>
                  <a:pt x="10710" y="14593"/>
                  <a:pt x="10592" y="14858"/>
                </a:cubicBezTo>
                <a:cubicBezTo>
                  <a:pt x="10490" y="15022"/>
                  <a:pt x="10485" y="15069"/>
                  <a:pt x="10368" y="15106"/>
                </a:cubicBezTo>
                <a:cubicBezTo>
                  <a:pt x="10326" y="14996"/>
                  <a:pt x="10356" y="14781"/>
                  <a:pt x="10542" y="14908"/>
                </a:cubicBezTo>
                <a:cubicBezTo>
                  <a:pt x="10621" y="15014"/>
                  <a:pt x="10648" y="15056"/>
                  <a:pt x="10641" y="15156"/>
                </a:cubicBezTo>
              </a:path>
              <a:path w="2655" h="2283">
                <a:moveTo>
                  <a:pt x="10939" y="14957"/>
                </a:moveTo>
                <a:cubicBezTo>
                  <a:pt x="11050" y="15046"/>
                  <a:pt x="11027" y="14925"/>
                  <a:pt x="10988" y="14957"/>
                </a:cubicBezTo>
                <a:cubicBezTo>
                  <a:pt x="10854" y="15066"/>
                  <a:pt x="11007" y="15038"/>
                  <a:pt x="11088" y="14957"/>
                </a:cubicBezTo>
                <a:cubicBezTo>
                  <a:pt x="10983" y="15009"/>
                  <a:pt x="10899" y="14999"/>
                  <a:pt x="11013" y="15056"/>
                </a:cubicBezTo>
              </a:path>
              <a:path w="2655" h="2283">
                <a:moveTo>
                  <a:pt x="11633" y="14213"/>
                </a:moveTo>
                <a:cubicBezTo>
                  <a:pt x="11578" y="14335"/>
                  <a:pt x="11468" y="14505"/>
                  <a:pt x="11658" y="14486"/>
                </a:cubicBezTo>
                <a:cubicBezTo>
                  <a:pt x="11683" y="14325"/>
                  <a:pt x="11596" y="14315"/>
                  <a:pt x="11584" y="14213"/>
                </a:cubicBezTo>
                <a:cubicBezTo>
                  <a:pt x="11915" y="14095"/>
                  <a:pt x="12045" y="14163"/>
                  <a:pt x="11981" y="14560"/>
                </a:cubicBezTo>
                <a:cubicBezTo>
                  <a:pt x="11954" y="14728"/>
                  <a:pt x="11881" y="14887"/>
                  <a:pt x="11857" y="15056"/>
                </a:cubicBezTo>
              </a:path>
              <a:path w="2655" h="2283">
                <a:moveTo>
                  <a:pt x="12154" y="14759"/>
                </a:moveTo>
                <a:cubicBezTo>
                  <a:pt x="12054" y="14910"/>
                  <a:pt x="12139" y="14889"/>
                  <a:pt x="12254" y="14808"/>
                </a:cubicBezTo>
                <a:cubicBezTo>
                  <a:pt x="12221" y="14808"/>
                  <a:pt x="12187" y="14808"/>
                  <a:pt x="12154" y="14808"/>
                </a:cubicBezTo>
              </a:path>
              <a:path w="2655" h="2283">
                <a:moveTo>
                  <a:pt x="10815" y="15329"/>
                </a:moveTo>
                <a:cubicBezTo>
                  <a:pt x="10857" y="15414"/>
                  <a:pt x="10952" y="15503"/>
                  <a:pt x="11063" y="15503"/>
                </a:cubicBezTo>
                <a:cubicBezTo>
                  <a:pt x="11204" y="15503"/>
                  <a:pt x="11353" y="15410"/>
                  <a:pt x="11410" y="15280"/>
                </a:cubicBezTo>
                <a:cubicBezTo>
                  <a:pt x="11462" y="15161"/>
                  <a:pt x="11453" y="15073"/>
                  <a:pt x="11435" y="14957"/>
                </a:cubicBezTo>
                <a:cubicBezTo>
                  <a:pt x="11423" y="14881"/>
                  <a:pt x="11379" y="14823"/>
                  <a:pt x="11311" y="14784"/>
                </a:cubicBezTo>
                <a:cubicBezTo>
                  <a:pt x="11247" y="14747"/>
                  <a:pt x="11164" y="14717"/>
                  <a:pt x="11088" y="14734"/>
                </a:cubicBezTo>
                <a:cubicBezTo>
                  <a:pt x="10992" y="14755"/>
                  <a:pt x="10944" y="14776"/>
                  <a:pt x="10864" y="14833"/>
                </a:cubicBezTo>
                <a:cubicBezTo>
                  <a:pt x="10744" y="14920"/>
                  <a:pt x="10723" y="14975"/>
                  <a:pt x="10765" y="15131"/>
                </a:cubicBezTo>
                <a:cubicBezTo>
                  <a:pt x="10813" y="15310"/>
                  <a:pt x="10902" y="15375"/>
                  <a:pt x="11063" y="15429"/>
                </a:cubicBezTo>
              </a:path>
              <a:path w="2655" h="2283">
                <a:moveTo>
                  <a:pt x="10666" y="13370"/>
                </a:moveTo>
                <a:cubicBezTo>
                  <a:pt x="10653" y="13266"/>
                  <a:pt x="10626" y="13271"/>
                  <a:pt x="10740" y="13271"/>
                </a:cubicBezTo>
                <a:cubicBezTo>
                  <a:pt x="11071" y="13271"/>
                  <a:pt x="11402" y="13231"/>
                  <a:pt x="11733" y="13221"/>
                </a:cubicBezTo>
                <a:cubicBezTo>
                  <a:pt x="11975" y="13214"/>
                  <a:pt x="12211" y="13246"/>
                  <a:pt x="12452" y="132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15040" y="4170240"/>
            <a:ext cx="544680" cy="500040"/>
          </a:xfrm>
          <a:custGeom>
            <a:avLst/>
            <a:gdLst/>
            <a:ahLst/>
            <a:rect l="l" t="t" r="r" b="b"/>
            <a:pathLst>
              <a:path w="1514" h="1390">
                <a:moveTo>
                  <a:pt x="17314" y="12378"/>
                </a:moveTo>
                <a:cubicBezTo>
                  <a:pt x="17297" y="12478"/>
                  <a:pt x="17293" y="12444"/>
                  <a:pt x="17338" y="12526"/>
                </a:cubicBezTo>
                <a:cubicBezTo>
                  <a:pt x="17394" y="12443"/>
                  <a:pt x="17391" y="12325"/>
                  <a:pt x="17289" y="12452"/>
                </a:cubicBezTo>
                <a:cubicBezTo>
                  <a:pt x="17265" y="12500"/>
                  <a:pt x="17255" y="12517"/>
                  <a:pt x="17314" y="12502"/>
                </a:cubicBezTo>
              </a:path>
              <a:path w="1514" h="1390">
                <a:moveTo>
                  <a:pt x="17636" y="11782"/>
                </a:moveTo>
                <a:cubicBezTo>
                  <a:pt x="17620" y="11902"/>
                  <a:pt x="17587" y="11993"/>
                  <a:pt x="17537" y="12105"/>
                </a:cubicBezTo>
                <a:cubicBezTo>
                  <a:pt x="17681" y="12063"/>
                  <a:pt x="17789" y="12044"/>
                  <a:pt x="17934" y="12080"/>
                </a:cubicBezTo>
              </a:path>
              <a:path w="1514" h="1390">
                <a:moveTo>
                  <a:pt x="17959" y="11584"/>
                </a:moveTo>
                <a:cubicBezTo>
                  <a:pt x="17936" y="11874"/>
                  <a:pt x="17944" y="12165"/>
                  <a:pt x="17909" y="12452"/>
                </a:cubicBezTo>
              </a:path>
              <a:path w="1514" h="1390">
                <a:moveTo>
                  <a:pt x="18579" y="11906"/>
                </a:moveTo>
                <a:cubicBezTo>
                  <a:pt x="18592" y="11803"/>
                  <a:pt x="18543" y="11755"/>
                  <a:pt x="18479" y="11658"/>
                </a:cubicBezTo>
                <a:cubicBezTo>
                  <a:pt x="18345" y="11691"/>
                  <a:pt x="18100" y="11858"/>
                  <a:pt x="18207" y="12055"/>
                </a:cubicBezTo>
                <a:cubicBezTo>
                  <a:pt x="18284" y="12197"/>
                  <a:pt x="18509" y="11842"/>
                  <a:pt x="18529" y="11807"/>
                </a:cubicBezTo>
                <a:cubicBezTo>
                  <a:pt x="18537" y="11790"/>
                  <a:pt x="18546" y="11774"/>
                  <a:pt x="18554" y="11757"/>
                </a:cubicBezTo>
                <a:cubicBezTo>
                  <a:pt x="18554" y="11958"/>
                  <a:pt x="18554" y="12153"/>
                  <a:pt x="18529" y="12353"/>
                </a:cubicBezTo>
                <a:cubicBezTo>
                  <a:pt x="18521" y="12394"/>
                  <a:pt x="18512" y="12436"/>
                  <a:pt x="18504" y="12477"/>
                </a:cubicBezTo>
              </a:path>
              <a:path w="1514" h="1390">
                <a:moveTo>
                  <a:pt x="17289" y="12526"/>
                </a:moveTo>
                <a:cubicBezTo>
                  <a:pt x="17435" y="12674"/>
                  <a:pt x="17488" y="12899"/>
                  <a:pt x="17711" y="12973"/>
                </a:cubicBezTo>
                <a:cubicBezTo>
                  <a:pt x="17935" y="13048"/>
                  <a:pt x="18044" y="12767"/>
                  <a:pt x="18132" y="12626"/>
                </a:cubicBezTo>
                <a:cubicBezTo>
                  <a:pt x="18219" y="12809"/>
                  <a:pt x="18309" y="13008"/>
                  <a:pt x="18554" y="12874"/>
                </a:cubicBezTo>
                <a:cubicBezTo>
                  <a:pt x="18743" y="12770"/>
                  <a:pt x="18774" y="12560"/>
                  <a:pt x="18752" y="123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56280" y="4276800"/>
            <a:ext cx="223920" cy="98280"/>
          </a:xfrm>
          <a:custGeom>
            <a:avLst/>
            <a:gdLst/>
            <a:ahLst/>
            <a:rect l="l" t="t" r="r" b="b"/>
            <a:pathLst>
              <a:path w="621" h="274">
                <a:moveTo>
                  <a:pt x="19323" y="11981"/>
                </a:moveTo>
                <a:cubicBezTo>
                  <a:pt x="19482" y="11949"/>
                  <a:pt x="19636" y="11919"/>
                  <a:pt x="19794" y="11881"/>
                </a:cubicBezTo>
              </a:path>
              <a:path w="621" h="274">
                <a:moveTo>
                  <a:pt x="19670" y="12154"/>
                </a:moveTo>
                <a:cubicBezTo>
                  <a:pt x="19812" y="12107"/>
                  <a:pt x="19854" y="12094"/>
                  <a:pt x="19943" y="120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75680" y="4081320"/>
            <a:ext cx="590400" cy="330480"/>
          </a:xfrm>
          <a:custGeom>
            <a:avLst/>
            <a:gdLst/>
            <a:ahLst/>
            <a:rect l="l" t="t" r="r" b="b"/>
            <a:pathLst>
              <a:path w="1638" h="919">
                <a:moveTo>
                  <a:pt x="20538" y="11683"/>
                </a:moveTo>
                <a:cubicBezTo>
                  <a:pt x="20638" y="11648"/>
                  <a:pt x="20534" y="11831"/>
                  <a:pt x="20489" y="11931"/>
                </a:cubicBezTo>
                <a:cubicBezTo>
                  <a:pt x="20649" y="11874"/>
                  <a:pt x="20670" y="11881"/>
                  <a:pt x="20836" y="11931"/>
                </a:cubicBezTo>
              </a:path>
              <a:path w="1638" h="919">
                <a:moveTo>
                  <a:pt x="20836" y="11435"/>
                </a:moveTo>
                <a:cubicBezTo>
                  <a:pt x="20858" y="11676"/>
                  <a:pt x="20878" y="11913"/>
                  <a:pt x="20886" y="12154"/>
                </a:cubicBezTo>
              </a:path>
              <a:path w="1638" h="919">
                <a:moveTo>
                  <a:pt x="21332" y="11683"/>
                </a:moveTo>
                <a:cubicBezTo>
                  <a:pt x="21332" y="11570"/>
                  <a:pt x="21197" y="11368"/>
                  <a:pt x="21059" y="11559"/>
                </a:cubicBezTo>
                <a:cubicBezTo>
                  <a:pt x="20989" y="11745"/>
                  <a:pt x="20965" y="11799"/>
                  <a:pt x="20985" y="11931"/>
                </a:cubicBezTo>
                <a:cubicBezTo>
                  <a:pt x="21168" y="11908"/>
                  <a:pt x="21218" y="11842"/>
                  <a:pt x="21183" y="11633"/>
                </a:cubicBezTo>
                <a:cubicBezTo>
                  <a:pt x="21193" y="11824"/>
                  <a:pt x="21222" y="12013"/>
                  <a:pt x="21233" y="12204"/>
                </a:cubicBezTo>
              </a:path>
              <a:path w="1638" h="919">
                <a:moveTo>
                  <a:pt x="21555" y="11336"/>
                </a:moveTo>
                <a:cubicBezTo>
                  <a:pt x="21509" y="11488"/>
                  <a:pt x="21400" y="11665"/>
                  <a:pt x="21580" y="11733"/>
                </a:cubicBezTo>
                <a:cubicBezTo>
                  <a:pt x="21586" y="11618"/>
                  <a:pt x="21526" y="11473"/>
                  <a:pt x="21555" y="11385"/>
                </a:cubicBezTo>
                <a:cubicBezTo>
                  <a:pt x="21906" y="11473"/>
                  <a:pt x="21857" y="11706"/>
                  <a:pt x="21779" y="12030"/>
                </a:cubicBezTo>
                <a:cubicBezTo>
                  <a:pt x="21762" y="12080"/>
                  <a:pt x="21746" y="12129"/>
                  <a:pt x="21729" y="12179"/>
                </a:cubicBezTo>
              </a:path>
              <a:path w="1638" h="919">
                <a:moveTo>
                  <a:pt x="21952" y="12179"/>
                </a:moveTo>
                <a:cubicBezTo>
                  <a:pt x="22067" y="12352"/>
                  <a:pt x="22106" y="12132"/>
                  <a:pt x="22051" y="120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42040" y="5054760"/>
            <a:ext cx="17640" cy="53640"/>
          </a:xfrm>
          <a:custGeom>
            <a:avLst/>
            <a:gdLst/>
            <a:ahLst/>
            <a:rect l="l" t="t" r="r" b="b"/>
            <a:pathLst>
              <a:path w="51" h="150">
                <a:moveTo>
                  <a:pt x="17338" y="14089"/>
                </a:moveTo>
                <a:cubicBezTo>
                  <a:pt x="17372" y="14123"/>
                  <a:pt x="17381" y="14118"/>
                  <a:pt x="17363" y="14039"/>
                </a:cubicBezTo>
                <a:cubicBezTo>
                  <a:pt x="17339" y="14149"/>
                  <a:pt x="17296" y="14179"/>
                  <a:pt x="17388" y="141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92880" y="4830840"/>
            <a:ext cx="492120" cy="268200"/>
          </a:xfrm>
          <a:custGeom>
            <a:avLst/>
            <a:gdLst/>
            <a:ahLst/>
            <a:rect l="l" t="t" r="r" b="b"/>
            <a:pathLst>
              <a:path w="1365" h="745">
                <a:moveTo>
                  <a:pt x="17810" y="13494"/>
                </a:moveTo>
                <a:cubicBezTo>
                  <a:pt x="17810" y="13328"/>
                  <a:pt x="17801" y="13726"/>
                  <a:pt x="17785" y="13891"/>
                </a:cubicBezTo>
                <a:cubicBezTo>
                  <a:pt x="17764" y="14058"/>
                  <a:pt x="17733" y="14102"/>
                  <a:pt x="17835" y="14163"/>
                </a:cubicBezTo>
                <a:cubicBezTo>
                  <a:pt x="18046" y="14090"/>
                  <a:pt x="18107" y="14029"/>
                  <a:pt x="18182" y="13816"/>
                </a:cubicBezTo>
                <a:cubicBezTo>
                  <a:pt x="18039" y="13603"/>
                  <a:pt x="17986" y="13959"/>
                  <a:pt x="17983" y="14089"/>
                </a:cubicBezTo>
                <a:cubicBezTo>
                  <a:pt x="17991" y="14114"/>
                  <a:pt x="18000" y="14138"/>
                  <a:pt x="18008" y="14163"/>
                </a:cubicBezTo>
              </a:path>
              <a:path w="1365" h="745">
                <a:moveTo>
                  <a:pt x="18355" y="13444"/>
                </a:moveTo>
                <a:cubicBezTo>
                  <a:pt x="18514" y="13426"/>
                  <a:pt x="18628" y="13446"/>
                  <a:pt x="18628" y="13667"/>
                </a:cubicBezTo>
                <a:cubicBezTo>
                  <a:pt x="18628" y="13903"/>
                  <a:pt x="18462" y="14056"/>
                  <a:pt x="18281" y="13965"/>
                </a:cubicBezTo>
                <a:cubicBezTo>
                  <a:pt x="18453" y="13793"/>
                  <a:pt x="18570" y="13715"/>
                  <a:pt x="18653" y="14015"/>
                </a:cubicBezTo>
                <a:cubicBezTo>
                  <a:pt x="18653" y="14040"/>
                  <a:pt x="18653" y="14064"/>
                  <a:pt x="18653" y="14089"/>
                </a:cubicBezTo>
              </a:path>
              <a:path w="1365" h="745">
                <a:moveTo>
                  <a:pt x="19000" y="13494"/>
                </a:moveTo>
                <a:cubicBezTo>
                  <a:pt x="18971" y="13505"/>
                  <a:pt x="18818" y="13518"/>
                  <a:pt x="18802" y="13543"/>
                </a:cubicBezTo>
                <a:cubicBezTo>
                  <a:pt x="18765" y="13600"/>
                  <a:pt x="18761" y="13694"/>
                  <a:pt x="18777" y="13742"/>
                </a:cubicBezTo>
                <a:cubicBezTo>
                  <a:pt x="18870" y="13732"/>
                  <a:pt x="18975" y="13675"/>
                  <a:pt x="19050" y="13767"/>
                </a:cubicBezTo>
                <a:cubicBezTo>
                  <a:pt x="19140" y="13878"/>
                  <a:pt x="19050" y="13997"/>
                  <a:pt x="18951" y="14039"/>
                </a:cubicBezTo>
                <a:cubicBezTo>
                  <a:pt x="18877" y="14070"/>
                  <a:pt x="18723" y="14020"/>
                  <a:pt x="18876" y="14064"/>
                </a:cubicBezTo>
              </a:path>
              <a:path w="1365" h="745">
                <a:moveTo>
                  <a:pt x="18876" y="13543"/>
                </a:moveTo>
                <a:cubicBezTo>
                  <a:pt x="18966" y="13538"/>
                  <a:pt x="19038" y="13528"/>
                  <a:pt x="19124" y="135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45200" y="4884840"/>
            <a:ext cx="108000" cy="71280"/>
          </a:xfrm>
          <a:custGeom>
            <a:avLst/>
            <a:gdLst/>
            <a:ahLst/>
            <a:rect l="l" t="t" r="r" b="b"/>
            <a:pathLst>
              <a:path w="299" h="200">
                <a:moveTo>
                  <a:pt x="19571" y="13568"/>
                </a:moveTo>
                <a:cubicBezTo>
                  <a:pt x="19670" y="13568"/>
                  <a:pt x="19770" y="13568"/>
                  <a:pt x="19869" y="13568"/>
                </a:cubicBezTo>
              </a:path>
              <a:path w="299" h="200">
                <a:moveTo>
                  <a:pt x="19621" y="13767"/>
                </a:moveTo>
                <a:cubicBezTo>
                  <a:pt x="19721" y="13767"/>
                  <a:pt x="19755" y="13767"/>
                  <a:pt x="19819" y="137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75680" y="4633920"/>
            <a:ext cx="1027080" cy="376200"/>
          </a:xfrm>
          <a:custGeom>
            <a:avLst/>
            <a:gdLst/>
            <a:ahLst/>
            <a:rect l="l" t="t" r="r" b="b"/>
            <a:pathLst>
              <a:path w="2853" h="1042">
                <a:moveTo>
                  <a:pt x="20712" y="13171"/>
                </a:moveTo>
                <a:cubicBezTo>
                  <a:pt x="20646" y="13323"/>
                  <a:pt x="20380" y="13728"/>
                  <a:pt x="20513" y="13891"/>
                </a:cubicBezTo>
                <a:cubicBezTo>
                  <a:pt x="20654" y="14064"/>
                  <a:pt x="20832" y="13758"/>
                  <a:pt x="20886" y="13692"/>
                </a:cubicBezTo>
                <a:cubicBezTo>
                  <a:pt x="20839" y="13484"/>
                  <a:pt x="20726" y="13750"/>
                  <a:pt x="20687" y="13841"/>
                </a:cubicBezTo>
              </a:path>
              <a:path w="2853" h="1042">
                <a:moveTo>
                  <a:pt x="21134" y="13221"/>
                </a:moveTo>
                <a:cubicBezTo>
                  <a:pt x="21304" y="13221"/>
                  <a:pt x="21427" y="13309"/>
                  <a:pt x="21357" y="13519"/>
                </a:cubicBezTo>
                <a:cubicBezTo>
                  <a:pt x="21278" y="13758"/>
                  <a:pt x="21168" y="13787"/>
                  <a:pt x="20985" y="13767"/>
                </a:cubicBezTo>
                <a:cubicBezTo>
                  <a:pt x="21016" y="13630"/>
                  <a:pt x="21101" y="13591"/>
                  <a:pt x="21233" y="13717"/>
                </a:cubicBezTo>
                <a:cubicBezTo>
                  <a:pt x="21249" y="13742"/>
                  <a:pt x="21266" y="13766"/>
                  <a:pt x="21282" y="13791"/>
                </a:cubicBezTo>
              </a:path>
              <a:path w="2853" h="1042">
                <a:moveTo>
                  <a:pt x="21605" y="13692"/>
                </a:moveTo>
                <a:cubicBezTo>
                  <a:pt x="21652" y="13772"/>
                  <a:pt x="21713" y="13684"/>
                  <a:pt x="21580" y="13717"/>
                </a:cubicBezTo>
              </a:path>
              <a:path w="2853" h="1042">
                <a:moveTo>
                  <a:pt x="22200" y="13072"/>
                </a:moveTo>
                <a:cubicBezTo>
                  <a:pt x="22102" y="13086"/>
                  <a:pt x="22037" y="13083"/>
                  <a:pt x="21977" y="13171"/>
                </a:cubicBezTo>
                <a:cubicBezTo>
                  <a:pt x="21924" y="13248"/>
                  <a:pt x="21927" y="13269"/>
                  <a:pt x="21927" y="13345"/>
                </a:cubicBezTo>
                <a:cubicBezTo>
                  <a:pt x="22056" y="13305"/>
                  <a:pt x="22228" y="13240"/>
                  <a:pt x="22349" y="13345"/>
                </a:cubicBezTo>
                <a:cubicBezTo>
                  <a:pt x="22544" y="13514"/>
                  <a:pt x="22254" y="13701"/>
                  <a:pt x="22101" y="13692"/>
                </a:cubicBezTo>
                <a:cubicBezTo>
                  <a:pt x="21980" y="13685"/>
                  <a:pt x="21897" y="13534"/>
                  <a:pt x="21977" y="13692"/>
                </a:cubicBezTo>
              </a:path>
              <a:path w="2853" h="1042">
                <a:moveTo>
                  <a:pt x="22721" y="12973"/>
                </a:moveTo>
                <a:cubicBezTo>
                  <a:pt x="22633" y="13061"/>
                  <a:pt x="22582" y="13131"/>
                  <a:pt x="22671" y="13221"/>
                </a:cubicBezTo>
                <a:cubicBezTo>
                  <a:pt x="22799" y="13074"/>
                  <a:pt x="22850" y="13011"/>
                  <a:pt x="22671" y="12874"/>
                </a:cubicBezTo>
                <a:cubicBezTo>
                  <a:pt x="22783" y="12889"/>
                  <a:pt x="22972" y="12945"/>
                  <a:pt x="23019" y="13072"/>
                </a:cubicBezTo>
                <a:cubicBezTo>
                  <a:pt x="23097" y="13283"/>
                  <a:pt x="22924" y="13464"/>
                  <a:pt x="22820" y="13618"/>
                </a:cubicBezTo>
              </a:path>
              <a:path w="2853" h="1042">
                <a:moveTo>
                  <a:pt x="23168" y="13519"/>
                </a:moveTo>
                <a:cubicBezTo>
                  <a:pt x="23256" y="13607"/>
                  <a:pt x="23395" y="13489"/>
                  <a:pt x="23316" y="13444"/>
                </a:cubicBezTo>
                <a:cubicBezTo>
                  <a:pt x="23275" y="13436"/>
                  <a:pt x="23233" y="13427"/>
                  <a:pt x="23192" y="134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02240" y="5438880"/>
            <a:ext cx="527040" cy="455400"/>
          </a:xfrm>
          <a:custGeom>
            <a:avLst/>
            <a:gdLst/>
            <a:ahLst/>
            <a:rect l="l" t="t" r="r" b="b"/>
            <a:pathLst>
              <a:path w="1464" h="1266">
                <a:moveTo>
                  <a:pt x="17859" y="15751"/>
                </a:moveTo>
                <a:cubicBezTo>
                  <a:pt x="17815" y="15804"/>
                  <a:pt x="17799" y="15837"/>
                  <a:pt x="17785" y="15900"/>
                </a:cubicBezTo>
                <a:cubicBezTo>
                  <a:pt x="17912" y="15911"/>
                  <a:pt x="17900" y="15923"/>
                  <a:pt x="17934" y="15801"/>
                </a:cubicBezTo>
                <a:cubicBezTo>
                  <a:pt x="17901" y="15795"/>
                  <a:pt x="17703" y="15778"/>
                  <a:pt x="17785" y="15900"/>
                </a:cubicBezTo>
                <a:cubicBezTo>
                  <a:pt x="17793" y="15900"/>
                  <a:pt x="17802" y="15900"/>
                  <a:pt x="17810" y="15900"/>
                </a:cubicBezTo>
              </a:path>
              <a:path w="1464" h="1266">
                <a:moveTo>
                  <a:pt x="18256" y="15280"/>
                </a:moveTo>
                <a:cubicBezTo>
                  <a:pt x="18117" y="15306"/>
                  <a:pt x="18347" y="15162"/>
                  <a:pt x="18405" y="15131"/>
                </a:cubicBezTo>
                <a:cubicBezTo>
                  <a:pt x="18405" y="15271"/>
                  <a:pt x="18256" y="15575"/>
                  <a:pt x="18331" y="15429"/>
                </a:cubicBezTo>
                <a:cubicBezTo>
                  <a:pt x="18501" y="15438"/>
                  <a:pt x="18712" y="15591"/>
                  <a:pt x="18479" y="15776"/>
                </a:cubicBezTo>
                <a:cubicBezTo>
                  <a:pt x="18333" y="15824"/>
                  <a:pt x="18285" y="15841"/>
                  <a:pt x="18182" y="15801"/>
                </a:cubicBezTo>
              </a:path>
              <a:path w="1464" h="1266">
                <a:moveTo>
                  <a:pt x="17909" y="15949"/>
                </a:moveTo>
                <a:cubicBezTo>
                  <a:pt x="17884" y="15974"/>
                  <a:pt x="17876" y="15982"/>
                  <a:pt x="17859" y="15999"/>
                </a:cubicBezTo>
              </a:path>
              <a:path w="1464" h="1266">
                <a:moveTo>
                  <a:pt x="17884" y="15925"/>
                </a:moveTo>
                <a:cubicBezTo>
                  <a:pt x="17868" y="15908"/>
                  <a:pt x="17851" y="15892"/>
                  <a:pt x="17835" y="15875"/>
                </a:cubicBezTo>
                <a:cubicBezTo>
                  <a:pt x="17835" y="15941"/>
                  <a:pt x="17828" y="15995"/>
                  <a:pt x="17859" y="16049"/>
                </a:cubicBezTo>
              </a:path>
              <a:path w="1464" h="1266">
                <a:moveTo>
                  <a:pt x="17835" y="15999"/>
                </a:moveTo>
                <a:cubicBezTo>
                  <a:pt x="17854" y="16046"/>
                  <a:pt x="17864" y="16077"/>
                  <a:pt x="17884" y="16123"/>
                </a:cubicBezTo>
              </a:path>
              <a:path w="1464" h="1266">
                <a:moveTo>
                  <a:pt x="17859" y="16024"/>
                </a:moveTo>
                <a:cubicBezTo>
                  <a:pt x="17859" y="16095"/>
                  <a:pt x="17874" y="16115"/>
                  <a:pt x="17909" y="16173"/>
                </a:cubicBezTo>
                <a:cubicBezTo>
                  <a:pt x="17958" y="16254"/>
                  <a:pt x="18000" y="16280"/>
                  <a:pt x="18083" y="16321"/>
                </a:cubicBezTo>
                <a:cubicBezTo>
                  <a:pt x="18156" y="16357"/>
                  <a:pt x="18171" y="16371"/>
                  <a:pt x="18256" y="16371"/>
                </a:cubicBezTo>
                <a:cubicBezTo>
                  <a:pt x="18317" y="16371"/>
                  <a:pt x="18353" y="16337"/>
                  <a:pt x="18405" y="16321"/>
                </a:cubicBezTo>
                <a:cubicBezTo>
                  <a:pt x="18493" y="16295"/>
                  <a:pt x="18473" y="16257"/>
                  <a:pt x="18504" y="16197"/>
                </a:cubicBezTo>
                <a:cubicBezTo>
                  <a:pt x="18531" y="16145"/>
                  <a:pt x="18590" y="16079"/>
                  <a:pt x="18604" y="16024"/>
                </a:cubicBezTo>
                <a:cubicBezTo>
                  <a:pt x="18619" y="15966"/>
                  <a:pt x="18638" y="15908"/>
                  <a:pt x="18653" y="15850"/>
                </a:cubicBezTo>
                <a:cubicBezTo>
                  <a:pt x="18653" y="15842"/>
                  <a:pt x="18653" y="15833"/>
                  <a:pt x="18653" y="15825"/>
                </a:cubicBezTo>
              </a:path>
              <a:path w="1464" h="1266">
                <a:moveTo>
                  <a:pt x="18703" y="15875"/>
                </a:moveTo>
                <a:cubicBezTo>
                  <a:pt x="18725" y="15832"/>
                  <a:pt x="18728" y="15820"/>
                  <a:pt x="18752" y="15801"/>
                </a:cubicBezTo>
                <a:cubicBezTo>
                  <a:pt x="18752" y="15876"/>
                  <a:pt x="18713" y="16085"/>
                  <a:pt x="18777" y="16148"/>
                </a:cubicBezTo>
                <a:cubicBezTo>
                  <a:pt x="18827" y="16198"/>
                  <a:pt x="18936" y="16213"/>
                  <a:pt x="19000" y="16197"/>
                </a:cubicBezTo>
                <a:cubicBezTo>
                  <a:pt x="19074" y="16178"/>
                  <a:pt x="19155" y="16138"/>
                  <a:pt x="19199" y="16073"/>
                </a:cubicBezTo>
                <a:cubicBezTo>
                  <a:pt x="19238" y="16016"/>
                  <a:pt x="19248" y="15967"/>
                  <a:pt x="19248" y="15900"/>
                </a:cubicBezTo>
                <a:cubicBezTo>
                  <a:pt x="19248" y="15826"/>
                  <a:pt x="19248" y="15751"/>
                  <a:pt x="19248" y="15677"/>
                </a:cubicBezTo>
              </a:path>
              <a:path w="1464" h="1266">
                <a:moveTo>
                  <a:pt x="18901" y="15180"/>
                </a:moveTo>
                <a:cubicBezTo>
                  <a:pt x="18817" y="15244"/>
                  <a:pt x="18780" y="15305"/>
                  <a:pt x="18752" y="15404"/>
                </a:cubicBezTo>
                <a:cubicBezTo>
                  <a:pt x="18725" y="15498"/>
                  <a:pt x="18737" y="15523"/>
                  <a:pt x="18752" y="15602"/>
                </a:cubicBezTo>
                <a:cubicBezTo>
                  <a:pt x="18770" y="15694"/>
                  <a:pt x="18734" y="15701"/>
                  <a:pt x="18827" y="15751"/>
                </a:cubicBezTo>
                <a:cubicBezTo>
                  <a:pt x="18882" y="15781"/>
                  <a:pt x="18978" y="15751"/>
                  <a:pt x="19025" y="15701"/>
                </a:cubicBezTo>
                <a:cubicBezTo>
                  <a:pt x="19050" y="15674"/>
                  <a:pt x="19115" y="15561"/>
                  <a:pt x="19124" y="15528"/>
                </a:cubicBezTo>
                <a:cubicBezTo>
                  <a:pt x="19141" y="15461"/>
                  <a:pt x="19130" y="15408"/>
                  <a:pt x="19124" y="15354"/>
                </a:cubicBezTo>
                <a:cubicBezTo>
                  <a:pt x="19115" y="15277"/>
                  <a:pt x="19125" y="15245"/>
                  <a:pt x="19075" y="15180"/>
                </a:cubicBezTo>
                <a:cubicBezTo>
                  <a:pt x="19045" y="15141"/>
                  <a:pt x="18990" y="15132"/>
                  <a:pt x="18951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8200" y="5483160"/>
            <a:ext cx="152640" cy="81000"/>
          </a:xfrm>
          <a:custGeom>
            <a:avLst/>
            <a:gdLst/>
            <a:ahLst/>
            <a:rect l="l" t="t" r="r" b="b"/>
            <a:pathLst>
              <a:path w="423" h="224">
                <a:moveTo>
                  <a:pt x="19496" y="15230"/>
                </a:moveTo>
                <a:cubicBezTo>
                  <a:pt x="19607" y="15250"/>
                  <a:pt x="19705" y="15255"/>
                  <a:pt x="19819" y="15255"/>
                </a:cubicBezTo>
              </a:path>
              <a:path w="423" h="224">
                <a:moveTo>
                  <a:pt x="19645" y="15453"/>
                </a:moveTo>
                <a:cubicBezTo>
                  <a:pt x="19778" y="15453"/>
                  <a:pt x="19828" y="15452"/>
                  <a:pt x="19918" y="154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27960" y="5180040"/>
            <a:ext cx="723960" cy="436680"/>
          </a:xfrm>
          <a:custGeom>
            <a:avLst/>
            <a:gdLst/>
            <a:ahLst/>
            <a:rect l="l" t="t" r="r" b="b"/>
            <a:pathLst>
              <a:path w="2011" h="1216">
                <a:moveTo>
                  <a:pt x="20910" y="14908"/>
                </a:moveTo>
                <a:cubicBezTo>
                  <a:pt x="20987" y="14873"/>
                  <a:pt x="21388" y="14747"/>
                  <a:pt x="21183" y="15007"/>
                </a:cubicBezTo>
                <a:cubicBezTo>
                  <a:pt x="21133" y="15048"/>
                  <a:pt x="21084" y="15090"/>
                  <a:pt x="21034" y="15131"/>
                </a:cubicBezTo>
                <a:cubicBezTo>
                  <a:pt x="21009" y="15147"/>
                  <a:pt x="20985" y="15164"/>
                  <a:pt x="20960" y="15180"/>
                </a:cubicBezTo>
                <a:cubicBezTo>
                  <a:pt x="21073" y="15093"/>
                  <a:pt x="21378" y="15050"/>
                  <a:pt x="21307" y="15329"/>
                </a:cubicBezTo>
                <a:cubicBezTo>
                  <a:pt x="21243" y="15580"/>
                  <a:pt x="21100" y="15577"/>
                  <a:pt x="20910" y="15577"/>
                </a:cubicBezTo>
              </a:path>
              <a:path w="2011" h="1216">
                <a:moveTo>
                  <a:pt x="21630" y="14808"/>
                </a:moveTo>
                <a:cubicBezTo>
                  <a:pt x="21511" y="15060"/>
                  <a:pt x="21478" y="15237"/>
                  <a:pt x="21530" y="15503"/>
                </a:cubicBezTo>
                <a:cubicBezTo>
                  <a:pt x="21697" y="15474"/>
                  <a:pt x="22312" y="15193"/>
                  <a:pt x="21927" y="14932"/>
                </a:cubicBezTo>
                <a:cubicBezTo>
                  <a:pt x="21828" y="14916"/>
                  <a:pt x="21729" y="14899"/>
                  <a:pt x="21630" y="14883"/>
                </a:cubicBezTo>
              </a:path>
              <a:path w="2011" h="1216">
                <a:moveTo>
                  <a:pt x="22126" y="14610"/>
                </a:moveTo>
                <a:cubicBezTo>
                  <a:pt x="22126" y="14760"/>
                  <a:pt x="22120" y="14795"/>
                  <a:pt x="22151" y="14883"/>
                </a:cubicBezTo>
                <a:cubicBezTo>
                  <a:pt x="22287" y="14815"/>
                  <a:pt x="22283" y="14666"/>
                  <a:pt x="22250" y="14511"/>
                </a:cubicBezTo>
                <a:cubicBezTo>
                  <a:pt x="22230" y="14470"/>
                  <a:pt x="22221" y="14464"/>
                  <a:pt x="22225" y="14436"/>
                </a:cubicBezTo>
                <a:cubicBezTo>
                  <a:pt x="22557" y="14409"/>
                  <a:pt x="22630" y="14586"/>
                  <a:pt x="22523" y="14932"/>
                </a:cubicBezTo>
                <a:cubicBezTo>
                  <a:pt x="22443" y="15091"/>
                  <a:pt x="22434" y="15120"/>
                  <a:pt x="22374" y="15205"/>
                </a:cubicBezTo>
              </a:path>
              <a:path w="2011" h="1216">
                <a:moveTo>
                  <a:pt x="22696" y="15131"/>
                </a:moveTo>
                <a:cubicBezTo>
                  <a:pt x="22814" y="15307"/>
                  <a:pt x="22911" y="15220"/>
                  <a:pt x="22870" y="150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9960" y="5062680"/>
            <a:ext cx="519120" cy="179280"/>
          </a:xfrm>
          <a:custGeom>
            <a:avLst/>
            <a:gdLst/>
            <a:ahLst/>
            <a:rect l="l" t="t" r="r" b="b"/>
            <a:pathLst>
              <a:path w="1440" h="497">
                <a:moveTo>
                  <a:pt x="17438" y="14188"/>
                </a:moveTo>
                <a:cubicBezTo>
                  <a:pt x="17369" y="14284"/>
                  <a:pt x="17359" y="14330"/>
                  <a:pt x="17562" y="14461"/>
                </a:cubicBezTo>
                <a:cubicBezTo>
                  <a:pt x="17746" y="14580"/>
                  <a:pt x="18040" y="14621"/>
                  <a:pt x="18157" y="14387"/>
                </a:cubicBezTo>
                <a:cubicBezTo>
                  <a:pt x="18157" y="14342"/>
                  <a:pt x="18160" y="14322"/>
                  <a:pt x="18132" y="14362"/>
                </a:cubicBezTo>
                <a:cubicBezTo>
                  <a:pt x="18274" y="14545"/>
                  <a:pt x="18349" y="14462"/>
                  <a:pt x="18554" y="14362"/>
                </a:cubicBezTo>
                <a:cubicBezTo>
                  <a:pt x="18646" y="14317"/>
                  <a:pt x="18684" y="14309"/>
                  <a:pt x="18703" y="14213"/>
                </a:cubicBezTo>
                <a:cubicBezTo>
                  <a:pt x="18724" y="14108"/>
                  <a:pt x="18674" y="14179"/>
                  <a:pt x="18777" y="14163"/>
                </a:cubicBezTo>
                <a:cubicBezTo>
                  <a:pt x="18777" y="14067"/>
                  <a:pt x="18728" y="14018"/>
                  <a:pt x="18678" y="14139"/>
                </a:cubicBezTo>
                <a:cubicBezTo>
                  <a:pt x="18678" y="14155"/>
                  <a:pt x="18678" y="14172"/>
                  <a:pt x="18678" y="14188"/>
                </a:cubicBezTo>
                <a:cubicBezTo>
                  <a:pt x="18759" y="14096"/>
                  <a:pt x="18710" y="14019"/>
                  <a:pt x="18678" y="14114"/>
                </a:cubicBezTo>
                <a:cubicBezTo>
                  <a:pt x="18678" y="14165"/>
                  <a:pt x="18680" y="14181"/>
                  <a:pt x="18728" y="141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rite fractions as decimals and percents, and vice 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09480" y="12193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ing from % to decimal means dividing by 100….shortcut….replace the % symbol with a decimal and move it 2 places to th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 35%  = .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%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5%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73200" y="4616280"/>
            <a:ext cx="689040" cy="438480"/>
          </a:xfrm>
          <a:custGeom>
            <a:avLst/>
            <a:gdLst/>
            <a:ahLst/>
            <a:rect l="l" t="t" r="r" b="b"/>
            <a:pathLst>
              <a:path w="1911" h="1216">
                <a:moveTo>
                  <a:pt x="8731" y="13543"/>
                </a:moveTo>
                <a:cubicBezTo>
                  <a:pt x="8628" y="13543"/>
                  <a:pt x="8637" y="13542"/>
                  <a:pt x="8657" y="13643"/>
                </a:cubicBezTo>
                <a:cubicBezTo>
                  <a:pt x="8704" y="13650"/>
                  <a:pt x="8842" y="13588"/>
                  <a:pt x="8781" y="13494"/>
                </a:cubicBezTo>
                <a:cubicBezTo>
                  <a:pt x="8726" y="13408"/>
                  <a:pt x="8638" y="13533"/>
                  <a:pt x="8657" y="13593"/>
                </a:cubicBezTo>
                <a:cubicBezTo>
                  <a:pt x="8686" y="13688"/>
                  <a:pt x="8747" y="13564"/>
                  <a:pt x="8756" y="13543"/>
                </a:cubicBezTo>
                <a:cubicBezTo>
                  <a:pt x="8603" y="13544"/>
                  <a:pt x="8672" y="13653"/>
                  <a:pt x="8706" y="13568"/>
                </a:cubicBezTo>
                <a:cubicBezTo>
                  <a:pt x="8706" y="13509"/>
                  <a:pt x="8697" y="13496"/>
                  <a:pt x="8632" y="13543"/>
                </a:cubicBezTo>
              </a:path>
              <a:path w="1911" h="1216">
                <a:moveTo>
                  <a:pt x="8731" y="13568"/>
                </a:moveTo>
                <a:cubicBezTo>
                  <a:pt x="8731" y="13733"/>
                  <a:pt x="8757" y="13880"/>
                  <a:pt x="8607" y="13990"/>
                </a:cubicBezTo>
                <a:cubicBezTo>
                  <a:pt x="8475" y="14087"/>
                  <a:pt x="8292" y="14026"/>
                  <a:pt x="8161" y="13965"/>
                </a:cubicBezTo>
                <a:cubicBezTo>
                  <a:pt x="8015" y="13897"/>
                  <a:pt x="7895" y="13776"/>
                  <a:pt x="7863" y="13618"/>
                </a:cubicBezTo>
                <a:cubicBezTo>
                  <a:pt x="7855" y="13580"/>
                  <a:pt x="7863" y="13533"/>
                  <a:pt x="7863" y="13494"/>
                </a:cubicBezTo>
                <a:cubicBezTo>
                  <a:pt x="7849" y="13602"/>
                  <a:pt x="7898" y="13765"/>
                  <a:pt x="7838" y="13866"/>
                </a:cubicBezTo>
                <a:cubicBezTo>
                  <a:pt x="7772" y="13977"/>
                  <a:pt x="7613" y="14048"/>
                  <a:pt x="7491" y="14039"/>
                </a:cubicBezTo>
                <a:cubicBezTo>
                  <a:pt x="7313" y="14027"/>
                  <a:pt x="7219" y="13898"/>
                  <a:pt x="7119" y="13767"/>
                </a:cubicBezTo>
                <a:cubicBezTo>
                  <a:pt x="7038" y="13662"/>
                  <a:pt x="7036" y="13516"/>
                  <a:pt x="6970" y="13419"/>
                </a:cubicBezTo>
                <a:cubicBezTo>
                  <a:pt x="6936" y="13387"/>
                  <a:pt x="6920" y="13370"/>
                  <a:pt x="6896" y="13345"/>
                </a:cubicBezTo>
                <a:cubicBezTo>
                  <a:pt x="6896" y="13392"/>
                  <a:pt x="6862" y="13618"/>
                  <a:pt x="6970" y="13568"/>
                </a:cubicBezTo>
                <a:cubicBezTo>
                  <a:pt x="7133" y="13492"/>
                  <a:pt x="6891" y="13308"/>
                  <a:pt x="6871" y="13345"/>
                </a:cubicBezTo>
                <a:cubicBezTo>
                  <a:pt x="6871" y="13453"/>
                  <a:pt x="6873" y="13495"/>
                  <a:pt x="6896" y="13568"/>
                </a:cubicBezTo>
                <a:cubicBezTo>
                  <a:pt x="7017" y="13502"/>
                  <a:pt x="7022" y="13517"/>
                  <a:pt x="6970" y="13320"/>
                </a:cubicBezTo>
                <a:cubicBezTo>
                  <a:pt x="6874" y="13403"/>
                  <a:pt x="6878" y="13511"/>
                  <a:pt x="6970" y="13618"/>
                </a:cubicBezTo>
                <a:cubicBezTo>
                  <a:pt x="7065" y="13491"/>
                  <a:pt x="7066" y="13496"/>
                  <a:pt x="6970" y="13370"/>
                </a:cubicBezTo>
              </a:path>
              <a:path w="1911" h="1216">
                <a:moveTo>
                  <a:pt x="7342" y="12849"/>
                </a:moveTo>
                <a:cubicBezTo>
                  <a:pt x="7200" y="12763"/>
                  <a:pt x="7222" y="12985"/>
                  <a:pt x="7218" y="13072"/>
                </a:cubicBezTo>
                <a:cubicBezTo>
                  <a:pt x="7211" y="13227"/>
                  <a:pt x="7242" y="13269"/>
                  <a:pt x="7342" y="13370"/>
                </a:cubicBezTo>
                <a:cubicBezTo>
                  <a:pt x="7491" y="13270"/>
                  <a:pt x="7615" y="13098"/>
                  <a:pt x="7491" y="12898"/>
                </a:cubicBezTo>
                <a:cubicBezTo>
                  <a:pt x="7435" y="12809"/>
                  <a:pt x="7312" y="12853"/>
                  <a:pt x="7243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97120" y="3652920"/>
            <a:ext cx="581040" cy="249120"/>
          </a:xfrm>
          <a:custGeom>
            <a:avLst/>
            <a:gdLst/>
            <a:ahLst/>
            <a:rect l="l" t="t" r="r" b="b"/>
            <a:pathLst>
              <a:path w="1613" h="696">
                <a:moveTo>
                  <a:pt x="9054" y="10294"/>
                </a:moveTo>
                <a:cubicBezTo>
                  <a:pt x="9028" y="10242"/>
                  <a:pt x="9034" y="10312"/>
                  <a:pt x="9029" y="10344"/>
                </a:cubicBezTo>
                <a:cubicBezTo>
                  <a:pt x="9059" y="10314"/>
                  <a:pt x="9166" y="10088"/>
                  <a:pt x="9029" y="10145"/>
                </a:cubicBezTo>
                <a:cubicBezTo>
                  <a:pt x="9002" y="10156"/>
                  <a:pt x="8853" y="10327"/>
                  <a:pt x="8954" y="10344"/>
                </a:cubicBezTo>
                <a:cubicBezTo>
                  <a:pt x="9036" y="10317"/>
                  <a:pt x="9063" y="10301"/>
                  <a:pt x="9054" y="10220"/>
                </a:cubicBezTo>
                <a:cubicBezTo>
                  <a:pt x="8984" y="10228"/>
                  <a:pt x="8964" y="10210"/>
                  <a:pt x="8979" y="10269"/>
                </a:cubicBezTo>
              </a:path>
              <a:path w="1613" h="696">
                <a:moveTo>
                  <a:pt x="8905" y="10319"/>
                </a:moveTo>
                <a:cubicBezTo>
                  <a:pt x="8952" y="10318"/>
                  <a:pt x="8951" y="10413"/>
                  <a:pt x="8930" y="10492"/>
                </a:cubicBezTo>
                <a:cubicBezTo>
                  <a:pt x="8903" y="10594"/>
                  <a:pt x="8865" y="10665"/>
                  <a:pt x="8756" y="10691"/>
                </a:cubicBezTo>
                <a:cubicBezTo>
                  <a:pt x="8666" y="10713"/>
                  <a:pt x="8611" y="10663"/>
                  <a:pt x="8558" y="10592"/>
                </a:cubicBezTo>
                <a:cubicBezTo>
                  <a:pt x="8503" y="10519"/>
                  <a:pt x="8476" y="10435"/>
                  <a:pt x="8409" y="10368"/>
                </a:cubicBezTo>
                <a:cubicBezTo>
                  <a:pt x="8380" y="10417"/>
                  <a:pt x="8368" y="10506"/>
                  <a:pt x="8359" y="10567"/>
                </a:cubicBezTo>
                <a:cubicBezTo>
                  <a:pt x="8349" y="10634"/>
                  <a:pt x="8320" y="10694"/>
                  <a:pt x="8260" y="10740"/>
                </a:cubicBezTo>
                <a:cubicBezTo>
                  <a:pt x="8207" y="10780"/>
                  <a:pt x="8078" y="10830"/>
                  <a:pt x="8012" y="10840"/>
                </a:cubicBezTo>
                <a:cubicBezTo>
                  <a:pt x="7919" y="10855"/>
                  <a:pt x="7679" y="10873"/>
                  <a:pt x="7615" y="10790"/>
                </a:cubicBezTo>
                <a:cubicBezTo>
                  <a:pt x="7563" y="10721"/>
                  <a:pt x="7504" y="10557"/>
                  <a:pt x="7491" y="10468"/>
                </a:cubicBezTo>
                <a:cubicBezTo>
                  <a:pt x="7482" y="10406"/>
                  <a:pt x="7491" y="10332"/>
                  <a:pt x="7491" y="102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86160" y="4749840"/>
            <a:ext cx="27000" cy="63360"/>
          </a:xfrm>
          <a:custGeom>
            <a:avLst/>
            <a:gdLst/>
            <a:ahLst/>
            <a:rect l="l" t="t" r="r" b="b"/>
            <a:pathLst>
              <a:path w="76" h="175">
                <a:moveTo>
                  <a:pt x="11931" y="13196"/>
                </a:moveTo>
                <a:cubicBezTo>
                  <a:pt x="11887" y="13385"/>
                  <a:pt x="11953" y="13317"/>
                  <a:pt x="11981" y="13196"/>
                </a:cubicBezTo>
                <a:cubicBezTo>
                  <a:pt x="11918" y="13259"/>
                  <a:pt x="11898" y="13294"/>
                  <a:pt x="11906" y="133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64000" y="4384800"/>
            <a:ext cx="339840" cy="339480"/>
          </a:xfrm>
          <a:custGeom>
            <a:avLst/>
            <a:gdLst/>
            <a:ahLst/>
            <a:rect l="l" t="t" r="r" b="b"/>
            <a:pathLst>
              <a:path w="944" h="944">
                <a:moveTo>
                  <a:pt x="12526" y="12526"/>
                </a:moveTo>
                <a:cubicBezTo>
                  <a:pt x="12397" y="12635"/>
                  <a:pt x="12344" y="12884"/>
                  <a:pt x="12452" y="13047"/>
                </a:cubicBezTo>
                <a:cubicBezTo>
                  <a:pt x="12493" y="13072"/>
                  <a:pt x="12535" y="13097"/>
                  <a:pt x="12576" y="13122"/>
                </a:cubicBezTo>
                <a:cubicBezTo>
                  <a:pt x="12798" y="12876"/>
                  <a:pt x="12901" y="12731"/>
                  <a:pt x="12576" y="12551"/>
                </a:cubicBezTo>
                <a:cubicBezTo>
                  <a:pt x="12551" y="12543"/>
                  <a:pt x="12527" y="12534"/>
                  <a:pt x="12502" y="12526"/>
                </a:cubicBezTo>
              </a:path>
              <a:path w="944" h="944">
                <a:moveTo>
                  <a:pt x="13221" y="12204"/>
                </a:moveTo>
                <a:cubicBezTo>
                  <a:pt x="13080" y="12368"/>
                  <a:pt x="12911" y="12505"/>
                  <a:pt x="13122" y="12675"/>
                </a:cubicBezTo>
                <a:cubicBezTo>
                  <a:pt x="13315" y="12831"/>
                  <a:pt x="13428" y="12921"/>
                  <a:pt x="13221" y="13097"/>
                </a:cubicBezTo>
                <a:cubicBezTo>
                  <a:pt x="13141" y="12756"/>
                  <a:pt x="13351" y="12513"/>
                  <a:pt x="13320" y="12179"/>
                </a:cubicBezTo>
                <a:cubicBezTo>
                  <a:pt x="13304" y="12179"/>
                  <a:pt x="13287" y="12179"/>
                  <a:pt x="13271" y="121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05160" y="5589720"/>
            <a:ext cx="911520" cy="366480"/>
          </a:xfrm>
          <a:custGeom>
            <a:avLst/>
            <a:gdLst/>
            <a:ahLst/>
            <a:rect l="l" t="t" r="r" b="b"/>
            <a:pathLst>
              <a:path w="2531" h="1018">
                <a:moveTo>
                  <a:pt x="12030" y="15801"/>
                </a:moveTo>
                <a:cubicBezTo>
                  <a:pt x="11971" y="16074"/>
                  <a:pt x="12058" y="15836"/>
                  <a:pt x="12129" y="15726"/>
                </a:cubicBezTo>
                <a:cubicBezTo>
                  <a:pt x="12322" y="15933"/>
                  <a:pt x="12347" y="16269"/>
                  <a:pt x="12055" y="16470"/>
                </a:cubicBezTo>
                <a:cubicBezTo>
                  <a:pt x="11839" y="16535"/>
                  <a:pt x="11783" y="16581"/>
                  <a:pt x="11683" y="16446"/>
                </a:cubicBezTo>
                <a:cubicBezTo>
                  <a:pt x="11794" y="16215"/>
                  <a:pt x="11991" y="16009"/>
                  <a:pt x="12254" y="16272"/>
                </a:cubicBezTo>
                <a:cubicBezTo>
                  <a:pt x="12293" y="16370"/>
                  <a:pt x="12309" y="16384"/>
                  <a:pt x="12303" y="16446"/>
                </a:cubicBezTo>
              </a:path>
              <a:path w="2531" h="1018">
                <a:moveTo>
                  <a:pt x="12551" y="16247"/>
                </a:moveTo>
                <a:cubicBezTo>
                  <a:pt x="12589" y="16360"/>
                  <a:pt x="12586" y="16344"/>
                  <a:pt x="12650" y="16247"/>
                </a:cubicBezTo>
                <a:cubicBezTo>
                  <a:pt x="12566" y="16219"/>
                  <a:pt x="12536" y="16220"/>
                  <a:pt x="12526" y="16321"/>
                </a:cubicBezTo>
              </a:path>
              <a:path w="2531" h="1018">
                <a:moveTo>
                  <a:pt x="13072" y="15701"/>
                </a:moveTo>
                <a:cubicBezTo>
                  <a:pt x="13201" y="15678"/>
                  <a:pt x="13406" y="15609"/>
                  <a:pt x="13345" y="15850"/>
                </a:cubicBezTo>
                <a:cubicBezTo>
                  <a:pt x="13284" y="15953"/>
                  <a:pt x="13276" y="15977"/>
                  <a:pt x="13221" y="16024"/>
                </a:cubicBezTo>
                <a:cubicBezTo>
                  <a:pt x="13393" y="15952"/>
                  <a:pt x="13614" y="16061"/>
                  <a:pt x="13370" y="16222"/>
                </a:cubicBezTo>
                <a:cubicBezTo>
                  <a:pt x="13215" y="16324"/>
                  <a:pt x="13140" y="16256"/>
                  <a:pt x="13022" y="16173"/>
                </a:cubicBezTo>
              </a:path>
              <a:path w="2531" h="1018">
                <a:moveTo>
                  <a:pt x="14064" y="15528"/>
                </a:moveTo>
                <a:cubicBezTo>
                  <a:pt x="13878" y="15667"/>
                  <a:pt x="13897" y="15516"/>
                  <a:pt x="13767" y="15726"/>
                </a:cubicBezTo>
                <a:cubicBezTo>
                  <a:pt x="13750" y="15751"/>
                  <a:pt x="13734" y="15776"/>
                  <a:pt x="13717" y="15801"/>
                </a:cubicBezTo>
                <a:cubicBezTo>
                  <a:pt x="13870" y="15772"/>
                  <a:pt x="14037" y="15750"/>
                  <a:pt x="14163" y="15875"/>
                </a:cubicBezTo>
                <a:cubicBezTo>
                  <a:pt x="14180" y="15908"/>
                  <a:pt x="14196" y="15941"/>
                  <a:pt x="14213" y="15974"/>
                </a:cubicBezTo>
                <a:cubicBezTo>
                  <a:pt x="14099" y="16088"/>
                  <a:pt x="13898" y="15929"/>
                  <a:pt x="13791" y="16049"/>
                </a:cubicBezTo>
                <a:cubicBezTo>
                  <a:pt x="13808" y="16074"/>
                  <a:pt x="13824" y="16098"/>
                  <a:pt x="13841" y="161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97760" y="3071880"/>
            <a:ext cx="2214360" cy="822240"/>
          </a:xfrm>
          <a:custGeom>
            <a:avLst/>
            <a:gdLst/>
            <a:ahLst/>
            <a:rect l="l" t="t" r="r" b="b"/>
            <a:pathLst>
              <a:path w="6153" h="2283">
                <a:moveTo>
                  <a:pt x="17859" y="9451"/>
                </a:moveTo>
                <a:cubicBezTo>
                  <a:pt x="17926" y="9693"/>
                  <a:pt x="17934" y="9964"/>
                  <a:pt x="17884" y="10220"/>
                </a:cubicBezTo>
                <a:cubicBezTo>
                  <a:pt x="17876" y="10236"/>
                  <a:pt x="17867" y="10253"/>
                  <a:pt x="17859" y="10269"/>
                </a:cubicBezTo>
              </a:path>
              <a:path w="6153" h="2283">
                <a:moveTo>
                  <a:pt x="18678" y="9401"/>
                </a:moveTo>
                <a:cubicBezTo>
                  <a:pt x="18588" y="9470"/>
                  <a:pt x="18447" y="9359"/>
                  <a:pt x="18380" y="9451"/>
                </a:cubicBezTo>
                <a:cubicBezTo>
                  <a:pt x="18327" y="9524"/>
                  <a:pt x="18309" y="9683"/>
                  <a:pt x="18281" y="9773"/>
                </a:cubicBezTo>
                <a:cubicBezTo>
                  <a:pt x="18423" y="9725"/>
                  <a:pt x="18528" y="9706"/>
                  <a:pt x="18678" y="9699"/>
                </a:cubicBezTo>
                <a:cubicBezTo>
                  <a:pt x="18737" y="9922"/>
                  <a:pt x="18724" y="10100"/>
                  <a:pt x="18455" y="10170"/>
                </a:cubicBezTo>
                <a:cubicBezTo>
                  <a:pt x="18337" y="10170"/>
                  <a:pt x="18315" y="10184"/>
                  <a:pt x="18256" y="10145"/>
                </a:cubicBezTo>
              </a:path>
              <a:path w="6153" h="2283">
                <a:moveTo>
                  <a:pt x="18976" y="9922"/>
                </a:moveTo>
                <a:cubicBezTo>
                  <a:pt x="18946" y="10039"/>
                  <a:pt x="18962" y="10128"/>
                  <a:pt x="19000" y="9971"/>
                </a:cubicBezTo>
                <a:cubicBezTo>
                  <a:pt x="18965" y="9971"/>
                  <a:pt x="18953" y="9981"/>
                  <a:pt x="18951" y="10021"/>
                </a:cubicBezTo>
              </a:path>
              <a:path w="6153" h="2283">
                <a:moveTo>
                  <a:pt x="19496" y="9451"/>
                </a:moveTo>
                <a:cubicBezTo>
                  <a:pt x="19474" y="9567"/>
                  <a:pt x="19468" y="9601"/>
                  <a:pt x="19447" y="9674"/>
                </a:cubicBezTo>
                <a:cubicBezTo>
                  <a:pt x="19581" y="9694"/>
                  <a:pt x="19662" y="9698"/>
                  <a:pt x="19794" y="9674"/>
                </a:cubicBezTo>
              </a:path>
              <a:path w="6153" h="2283">
                <a:moveTo>
                  <a:pt x="19794" y="9252"/>
                </a:moveTo>
                <a:cubicBezTo>
                  <a:pt x="19775" y="9499"/>
                  <a:pt x="19760" y="9751"/>
                  <a:pt x="19720" y="9996"/>
                </a:cubicBezTo>
                <a:cubicBezTo>
                  <a:pt x="19712" y="10029"/>
                  <a:pt x="19703" y="10063"/>
                  <a:pt x="19695" y="10096"/>
                </a:cubicBezTo>
              </a:path>
              <a:path w="6153" h="2283">
                <a:moveTo>
                  <a:pt x="20265" y="9277"/>
                </a:moveTo>
                <a:cubicBezTo>
                  <a:pt x="20188" y="9394"/>
                  <a:pt x="20183" y="9440"/>
                  <a:pt x="20191" y="9575"/>
                </a:cubicBezTo>
                <a:cubicBezTo>
                  <a:pt x="20422" y="9511"/>
                  <a:pt x="20237" y="9428"/>
                  <a:pt x="20241" y="9302"/>
                </a:cubicBezTo>
                <a:cubicBezTo>
                  <a:pt x="20257" y="9277"/>
                  <a:pt x="20274" y="9252"/>
                  <a:pt x="20290" y="9227"/>
                </a:cubicBezTo>
                <a:cubicBezTo>
                  <a:pt x="20604" y="9245"/>
                  <a:pt x="20568" y="9489"/>
                  <a:pt x="20464" y="9773"/>
                </a:cubicBezTo>
                <a:cubicBezTo>
                  <a:pt x="20383" y="9915"/>
                  <a:pt x="20371" y="9942"/>
                  <a:pt x="20315" y="10021"/>
                </a:cubicBezTo>
              </a:path>
              <a:path w="6153" h="2283">
                <a:moveTo>
                  <a:pt x="20662" y="9798"/>
                </a:moveTo>
                <a:cubicBezTo>
                  <a:pt x="20662" y="9906"/>
                  <a:pt x="20646" y="9947"/>
                  <a:pt x="20737" y="9922"/>
                </a:cubicBezTo>
                <a:cubicBezTo>
                  <a:pt x="20812" y="9813"/>
                  <a:pt x="20840" y="9825"/>
                  <a:pt x="20737" y="9773"/>
                </a:cubicBezTo>
              </a:path>
              <a:path w="6153" h="2283">
                <a:moveTo>
                  <a:pt x="18926" y="9971"/>
                </a:moveTo>
                <a:cubicBezTo>
                  <a:pt x="18935" y="10035"/>
                  <a:pt x="18944" y="10032"/>
                  <a:pt x="18951" y="10096"/>
                </a:cubicBezTo>
                <a:cubicBezTo>
                  <a:pt x="18962" y="10200"/>
                  <a:pt x="18934" y="10385"/>
                  <a:pt x="18827" y="10443"/>
                </a:cubicBezTo>
                <a:cubicBezTo>
                  <a:pt x="18731" y="10495"/>
                  <a:pt x="18584" y="10506"/>
                  <a:pt x="18479" y="10492"/>
                </a:cubicBezTo>
                <a:cubicBezTo>
                  <a:pt x="18351" y="10475"/>
                  <a:pt x="18330" y="10446"/>
                  <a:pt x="18256" y="10368"/>
                </a:cubicBezTo>
                <a:cubicBezTo>
                  <a:pt x="18240" y="10352"/>
                  <a:pt x="18223" y="10335"/>
                  <a:pt x="18207" y="10319"/>
                </a:cubicBezTo>
                <a:cubicBezTo>
                  <a:pt x="18240" y="10445"/>
                  <a:pt x="18284" y="10553"/>
                  <a:pt x="18182" y="10666"/>
                </a:cubicBezTo>
                <a:cubicBezTo>
                  <a:pt x="18053" y="10810"/>
                  <a:pt x="17912" y="10816"/>
                  <a:pt x="17735" y="10790"/>
                </a:cubicBezTo>
                <a:cubicBezTo>
                  <a:pt x="17563" y="10765"/>
                  <a:pt x="17470" y="10695"/>
                  <a:pt x="17388" y="10542"/>
                </a:cubicBezTo>
                <a:cubicBezTo>
                  <a:pt x="17371" y="10511"/>
                  <a:pt x="17333" y="10300"/>
                  <a:pt x="17264" y="10393"/>
                </a:cubicBezTo>
                <a:cubicBezTo>
                  <a:pt x="17244" y="10454"/>
                  <a:pt x="17246" y="10469"/>
                  <a:pt x="17214" y="10492"/>
                </a:cubicBezTo>
                <a:cubicBezTo>
                  <a:pt x="17223" y="10423"/>
                  <a:pt x="17259" y="10384"/>
                  <a:pt x="17264" y="10319"/>
                </a:cubicBezTo>
                <a:cubicBezTo>
                  <a:pt x="17264" y="10294"/>
                  <a:pt x="17264" y="10269"/>
                  <a:pt x="17264" y="10244"/>
                </a:cubicBezTo>
                <a:cubicBezTo>
                  <a:pt x="17259" y="10349"/>
                  <a:pt x="17196" y="10492"/>
                  <a:pt x="17388" y="10418"/>
                </a:cubicBezTo>
                <a:cubicBezTo>
                  <a:pt x="17615" y="10331"/>
                  <a:pt x="17329" y="10220"/>
                  <a:pt x="17239" y="10220"/>
                </a:cubicBezTo>
                <a:cubicBezTo>
                  <a:pt x="17216" y="10382"/>
                  <a:pt x="17211" y="10364"/>
                  <a:pt x="17338" y="10443"/>
                </a:cubicBezTo>
                <a:cubicBezTo>
                  <a:pt x="17490" y="10329"/>
                  <a:pt x="17453" y="10277"/>
                  <a:pt x="17289" y="10195"/>
                </a:cubicBezTo>
                <a:cubicBezTo>
                  <a:pt x="17254" y="10286"/>
                  <a:pt x="17313" y="10510"/>
                  <a:pt x="17388" y="10344"/>
                </a:cubicBezTo>
                <a:cubicBezTo>
                  <a:pt x="17422" y="10268"/>
                  <a:pt x="17305" y="10091"/>
                  <a:pt x="17289" y="10368"/>
                </a:cubicBezTo>
              </a:path>
              <a:path w="6153" h="2283">
                <a:moveTo>
                  <a:pt x="21084" y="9426"/>
                </a:moveTo>
                <a:cubicBezTo>
                  <a:pt x="21197" y="9419"/>
                  <a:pt x="21295" y="9402"/>
                  <a:pt x="21406" y="9376"/>
                </a:cubicBezTo>
              </a:path>
              <a:path w="6153" h="2283">
                <a:moveTo>
                  <a:pt x="21158" y="9699"/>
                </a:moveTo>
                <a:cubicBezTo>
                  <a:pt x="21292" y="9672"/>
                  <a:pt x="21343" y="9660"/>
                  <a:pt x="21431" y="9624"/>
                </a:cubicBezTo>
              </a:path>
              <a:path w="6153" h="2283">
                <a:moveTo>
                  <a:pt x="21903" y="9748"/>
                </a:moveTo>
                <a:cubicBezTo>
                  <a:pt x="21903" y="9808"/>
                  <a:pt x="21906" y="9815"/>
                  <a:pt x="21927" y="9723"/>
                </a:cubicBezTo>
              </a:path>
              <a:path w="6153" h="2283">
                <a:moveTo>
                  <a:pt x="22250" y="8954"/>
                </a:moveTo>
                <a:cubicBezTo>
                  <a:pt x="22265" y="9177"/>
                  <a:pt x="22284" y="9400"/>
                  <a:pt x="22299" y="9624"/>
                </a:cubicBezTo>
                <a:cubicBezTo>
                  <a:pt x="22299" y="9641"/>
                  <a:pt x="22299" y="9657"/>
                  <a:pt x="22299" y="9674"/>
                </a:cubicBezTo>
              </a:path>
              <a:path w="6153" h="2283">
                <a:moveTo>
                  <a:pt x="22771" y="8756"/>
                </a:moveTo>
                <a:cubicBezTo>
                  <a:pt x="22745" y="8776"/>
                  <a:pt x="22578" y="8843"/>
                  <a:pt x="22572" y="8855"/>
                </a:cubicBezTo>
                <a:cubicBezTo>
                  <a:pt x="22547" y="8954"/>
                  <a:pt x="22539" y="8987"/>
                  <a:pt x="22523" y="9054"/>
                </a:cubicBezTo>
                <a:cubicBezTo>
                  <a:pt x="22636" y="9008"/>
                  <a:pt x="22832" y="8929"/>
                  <a:pt x="22895" y="9103"/>
                </a:cubicBezTo>
                <a:cubicBezTo>
                  <a:pt x="22959" y="9279"/>
                  <a:pt x="22757" y="9608"/>
                  <a:pt x="22547" y="9475"/>
                </a:cubicBezTo>
                <a:cubicBezTo>
                  <a:pt x="22522" y="9434"/>
                  <a:pt x="22498" y="9392"/>
                  <a:pt x="22473" y="9351"/>
                </a:cubicBezTo>
              </a:path>
              <a:path w="6153" h="2283">
                <a:moveTo>
                  <a:pt x="22944" y="8806"/>
                </a:moveTo>
                <a:cubicBezTo>
                  <a:pt x="22995" y="8921"/>
                  <a:pt x="22987" y="9101"/>
                  <a:pt x="23168" y="9054"/>
                </a:cubicBezTo>
                <a:cubicBezTo>
                  <a:pt x="23276" y="8989"/>
                  <a:pt x="23302" y="8974"/>
                  <a:pt x="23366" y="8930"/>
                </a:cubicBezTo>
              </a:path>
              <a:path w="6153" h="2283">
                <a:moveTo>
                  <a:pt x="23292" y="8533"/>
                </a:moveTo>
                <a:cubicBezTo>
                  <a:pt x="23299" y="8801"/>
                  <a:pt x="23300" y="9086"/>
                  <a:pt x="23341" y="9351"/>
                </a:cubicBezTo>
                <a:cubicBezTo>
                  <a:pt x="23349" y="9376"/>
                  <a:pt x="23358" y="9401"/>
                  <a:pt x="23366" y="94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62160" y="6010200"/>
            <a:ext cx="73080" cy="71640"/>
          </a:xfrm>
          <a:custGeom>
            <a:avLst/>
            <a:gdLst/>
            <a:ahLst/>
            <a:rect l="l" t="t" r="r" b="b"/>
            <a:pathLst>
              <a:path w="199" h="199">
                <a:moveTo>
                  <a:pt x="8706" y="16793"/>
                </a:moveTo>
                <a:cubicBezTo>
                  <a:pt x="8631" y="16763"/>
                  <a:pt x="8576" y="16702"/>
                  <a:pt x="8533" y="16793"/>
                </a:cubicBezTo>
                <a:cubicBezTo>
                  <a:pt x="8510" y="16860"/>
                  <a:pt x="8495" y="16881"/>
                  <a:pt x="8558" y="16892"/>
                </a:cubicBezTo>
                <a:cubicBezTo>
                  <a:pt x="8626" y="16801"/>
                  <a:pt x="8604" y="16613"/>
                  <a:pt x="8533" y="16743"/>
                </a:cubicBezTo>
                <a:cubicBezTo>
                  <a:pt x="8435" y="16924"/>
                  <a:pt x="8581" y="16837"/>
                  <a:pt x="8632" y="16793"/>
                </a:cubicBezTo>
                <a:cubicBezTo>
                  <a:pt x="8557" y="16778"/>
                  <a:pt x="8503" y="16754"/>
                  <a:pt x="8582" y="168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16120" y="6010200"/>
            <a:ext cx="455760" cy="150840"/>
          </a:xfrm>
          <a:custGeom>
            <a:avLst/>
            <a:gdLst/>
            <a:ahLst/>
            <a:rect l="l" t="t" r="r" b="b"/>
            <a:pathLst>
              <a:path w="1266" h="422">
                <a:moveTo>
                  <a:pt x="8508" y="16818"/>
                </a:moveTo>
                <a:cubicBezTo>
                  <a:pt x="8516" y="16938"/>
                  <a:pt x="8516" y="17085"/>
                  <a:pt x="8359" y="17115"/>
                </a:cubicBezTo>
                <a:cubicBezTo>
                  <a:pt x="8206" y="17145"/>
                  <a:pt x="8067" y="17056"/>
                  <a:pt x="7938" y="16991"/>
                </a:cubicBezTo>
                <a:cubicBezTo>
                  <a:pt x="7844" y="16944"/>
                  <a:pt x="7854" y="16872"/>
                  <a:pt x="7863" y="16793"/>
                </a:cubicBezTo>
                <a:cubicBezTo>
                  <a:pt x="7863" y="16776"/>
                  <a:pt x="7863" y="16760"/>
                  <a:pt x="7863" y="16743"/>
                </a:cubicBezTo>
                <a:cubicBezTo>
                  <a:pt x="7962" y="16827"/>
                  <a:pt x="7962" y="16922"/>
                  <a:pt x="7888" y="17041"/>
                </a:cubicBezTo>
                <a:cubicBezTo>
                  <a:pt x="7826" y="17140"/>
                  <a:pt x="7657" y="17136"/>
                  <a:pt x="7565" y="17090"/>
                </a:cubicBezTo>
                <a:cubicBezTo>
                  <a:pt x="7481" y="17048"/>
                  <a:pt x="7334" y="16932"/>
                  <a:pt x="7367" y="16818"/>
                </a:cubicBezTo>
                <a:cubicBezTo>
                  <a:pt x="7383" y="16764"/>
                  <a:pt x="7422" y="16864"/>
                  <a:pt x="7441" y="16917"/>
                </a:cubicBezTo>
                <a:cubicBezTo>
                  <a:pt x="7422" y="16792"/>
                  <a:pt x="7419" y="16783"/>
                  <a:pt x="7317" y="16718"/>
                </a:cubicBezTo>
                <a:cubicBezTo>
                  <a:pt x="7260" y="16837"/>
                  <a:pt x="7321" y="16881"/>
                  <a:pt x="7417" y="16942"/>
                </a:cubicBezTo>
                <a:cubicBezTo>
                  <a:pt x="7444" y="16872"/>
                  <a:pt x="7427" y="16562"/>
                  <a:pt x="7293" y="16743"/>
                </a:cubicBezTo>
                <a:cubicBezTo>
                  <a:pt x="7267" y="16845"/>
                  <a:pt x="7260" y="16881"/>
                  <a:pt x="7317" y="169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rite fractions as decimals and percents, and vice ver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Skill Practice:  Match each 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percent and decim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1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7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A.  0.35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2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4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B.  0.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3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16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C.  0.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4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15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D.  0.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5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70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E.  0.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6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8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F.  0.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7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30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G.  0.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8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35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H.  0.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6697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497" y="18604"/>
                </a:moveTo>
                <a:lnTo>
                  <a:pt x="3497" y="1860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7960" y="1803240"/>
            <a:ext cx="162000" cy="250920"/>
          </a:xfrm>
          <a:custGeom>
            <a:avLst/>
            <a:gdLst/>
            <a:ahLst/>
            <a:rect l="l" t="t" r="r" b="b"/>
            <a:pathLst>
              <a:path w="448" h="695">
                <a:moveTo>
                  <a:pt x="4663" y="5135"/>
                </a:moveTo>
                <a:cubicBezTo>
                  <a:pt x="4736" y="5359"/>
                  <a:pt x="4750" y="5475"/>
                  <a:pt x="4688" y="5705"/>
                </a:cubicBezTo>
                <a:cubicBezTo>
                  <a:pt x="4843" y="5638"/>
                  <a:pt x="4953" y="5642"/>
                  <a:pt x="5110" y="5705"/>
                </a:cubicBezTo>
              </a:path>
              <a:path w="448" h="695">
                <a:moveTo>
                  <a:pt x="4713" y="5507"/>
                </a:moveTo>
                <a:cubicBezTo>
                  <a:pt x="4830" y="5466"/>
                  <a:pt x="4939" y="5436"/>
                  <a:pt x="5060" y="5407"/>
                </a:cubicBezTo>
              </a:path>
              <a:path w="448" h="695">
                <a:moveTo>
                  <a:pt x="4713" y="5110"/>
                </a:moveTo>
                <a:cubicBezTo>
                  <a:pt x="4837" y="5078"/>
                  <a:pt x="4965" y="5050"/>
                  <a:pt x="5085" y="50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70040" y="2320920"/>
            <a:ext cx="187200" cy="277920"/>
          </a:xfrm>
          <a:custGeom>
            <a:avLst/>
            <a:gdLst/>
            <a:ahLst/>
            <a:rect l="l" t="t" r="r" b="b"/>
            <a:pathLst>
              <a:path w="522" h="770">
                <a:moveTo>
                  <a:pt x="4663" y="6648"/>
                </a:moveTo>
                <a:cubicBezTo>
                  <a:pt x="4700" y="6845"/>
                  <a:pt x="4735" y="7033"/>
                  <a:pt x="4812" y="7218"/>
                </a:cubicBezTo>
                <a:cubicBezTo>
                  <a:pt x="4760" y="7016"/>
                  <a:pt x="4706" y="6819"/>
                  <a:pt x="4638" y="6623"/>
                </a:cubicBezTo>
                <a:cubicBezTo>
                  <a:pt x="4812" y="6565"/>
                  <a:pt x="4984" y="6502"/>
                  <a:pt x="5159" y="6449"/>
                </a:cubicBezTo>
              </a:path>
              <a:path w="522" h="770">
                <a:moveTo>
                  <a:pt x="4738" y="6921"/>
                </a:moveTo>
                <a:cubicBezTo>
                  <a:pt x="4846" y="6898"/>
                  <a:pt x="4953" y="6873"/>
                  <a:pt x="5060" y="68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7040" y="2857680"/>
            <a:ext cx="177840" cy="277560"/>
          </a:xfrm>
          <a:custGeom>
            <a:avLst/>
            <a:gdLst/>
            <a:ahLst/>
            <a:rect l="l" t="t" r="r" b="b"/>
            <a:pathLst>
              <a:path w="497" h="769">
                <a:moveTo>
                  <a:pt x="4713" y="8111"/>
                </a:moveTo>
                <a:cubicBezTo>
                  <a:pt x="4874" y="8078"/>
                  <a:pt x="4797" y="8442"/>
                  <a:pt x="4787" y="8533"/>
                </a:cubicBezTo>
                <a:cubicBezTo>
                  <a:pt x="4769" y="8640"/>
                  <a:pt x="4761" y="8648"/>
                  <a:pt x="4762" y="8706"/>
                </a:cubicBezTo>
                <a:cubicBezTo>
                  <a:pt x="4740" y="8484"/>
                  <a:pt x="4733" y="8285"/>
                  <a:pt x="4762" y="8062"/>
                </a:cubicBezTo>
                <a:cubicBezTo>
                  <a:pt x="4770" y="8021"/>
                  <a:pt x="4779" y="7979"/>
                  <a:pt x="4787" y="7938"/>
                </a:cubicBezTo>
                <a:cubicBezTo>
                  <a:pt x="5015" y="8020"/>
                  <a:pt x="5068" y="8219"/>
                  <a:pt x="5159" y="8434"/>
                </a:cubicBezTo>
                <a:cubicBezTo>
                  <a:pt x="5195" y="8524"/>
                  <a:pt x="5212" y="8529"/>
                  <a:pt x="5209" y="8582"/>
                </a:cubicBezTo>
              </a:path>
              <a:path w="497" h="769">
                <a:moveTo>
                  <a:pt x="4812" y="8508"/>
                </a:moveTo>
                <a:cubicBezTo>
                  <a:pt x="4916" y="8481"/>
                  <a:pt x="4990" y="8457"/>
                  <a:pt x="5085" y="84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14680" y="3384720"/>
            <a:ext cx="231480" cy="706320"/>
          </a:xfrm>
          <a:custGeom>
            <a:avLst/>
            <a:gdLst/>
            <a:ahLst/>
            <a:rect l="l" t="t" r="r" b="b"/>
            <a:pathLst>
              <a:path w="646" h="1961">
                <a:moveTo>
                  <a:pt x="5035" y="9401"/>
                </a:moveTo>
                <a:cubicBezTo>
                  <a:pt x="4941" y="9410"/>
                  <a:pt x="4898" y="9421"/>
                  <a:pt x="4837" y="9500"/>
                </a:cubicBezTo>
                <a:cubicBezTo>
                  <a:pt x="4743" y="9621"/>
                  <a:pt x="4740" y="9780"/>
                  <a:pt x="4787" y="9922"/>
                </a:cubicBezTo>
                <a:cubicBezTo>
                  <a:pt x="4842" y="10091"/>
                  <a:pt x="4999" y="10107"/>
                  <a:pt x="5135" y="10021"/>
                </a:cubicBezTo>
                <a:cubicBezTo>
                  <a:pt x="5250" y="9948"/>
                  <a:pt x="5302" y="9885"/>
                  <a:pt x="5358" y="9773"/>
                </a:cubicBezTo>
                <a:cubicBezTo>
                  <a:pt x="5307" y="9696"/>
                  <a:pt x="5273" y="9718"/>
                  <a:pt x="5184" y="9748"/>
                </a:cubicBezTo>
                <a:cubicBezTo>
                  <a:pt x="5081" y="9783"/>
                  <a:pt x="5053" y="9815"/>
                  <a:pt x="4986" y="9897"/>
                </a:cubicBezTo>
              </a:path>
              <a:path w="646" h="1961">
                <a:moveTo>
                  <a:pt x="4936" y="10815"/>
                </a:moveTo>
                <a:cubicBezTo>
                  <a:pt x="4997" y="10844"/>
                  <a:pt x="5082" y="11175"/>
                  <a:pt x="5110" y="11311"/>
                </a:cubicBezTo>
                <a:cubicBezTo>
                  <a:pt x="5110" y="11328"/>
                  <a:pt x="5110" y="11344"/>
                  <a:pt x="5110" y="11361"/>
                </a:cubicBezTo>
                <a:cubicBezTo>
                  <a:pt x="4942" y="11070"/>
                  <a:pt x="4834" y="10817"/>
                  <a:pt x="5011" y="10517"/>
                </a:cubicBezTo>
                <a:cubicBezTo>
                  <a:pt x="5124" y="10606"/>
                  <a:pt x="5186" y="10709"/>
                  <a:pt x="5159" y="10864"/>
                </a:cubicBezTo>
                <a:cubicBezTo>
                  <a:pt x="5151" y="10872"/>
                  <a:pt x="5143" y="10881"/>
                  <a:pt x="5135" y="10889"/>
                </a:cubicBezTo>
                <a:cubicBezTo>
                  <a:pt x="5184" y="10807"/>
                  <a:pt x="5344" y="10756"/>
                  <a:pt x="5407" y="10889"/>
                </a:cubicBezTo>
                <a:cubicBezTo>
                  <a:pt x="5493" y="11072"/>
                  <a:pt x="5314" y="11257"/>
                  <a:pt x="5159" y="11311"/>
                </a:cubicBezTo>
                <a:cubicBezTo>
                  <a:pt x="5115" y="11311"/>
                  <a:pt x="5101" y="11314"/>
                  <a:pt x="5085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31960" y="4348080"/>
            <a:ext cx="312840" cy="743040"/>
          </a:xfrm>
          <a:custGeom>
            <a:avLst/>
            <a:gdLst/>
            <a:ahLst/>
            <a:rect l="l" t="t" r="r" b="b"/>
            <a:pathLst>
              <a:path w="869" h="2060">
                <a:moveTo>
                  <a:pt x="5011" y="12154"/>
                </a:moveTo>
                <a:cubicBezTo>
                  <a:pt x="5143" y="12269"/>
                  <a:pt x="5052" y="12135"/>
                  <a:pt x="4986" y="12105"/>
                </a:cubicBezTo>
                <a:cubicBezTo>
                  <a:pt x="4931" y="12080"/>
                  <a:pt x="4916" y="12091"/>
                  <a:pt x="4862" y="12105"/>
                </a:cubicBezTo>
                <a:cubicBezTo>
                  <a:pt x="4811" y="12319"/>
                  <a:pt x="4767" y="12556"/>
                  <a:pt x="4911" y="12750"/>
                </a:cubicBezTo>
                <a:cubicBezTo>
                  <a:pt x="5101" y="13006"/>
                  <a:pt x="5324" y="12760"/>
                  <a:pt x="5457" y="12601"/>
                </a:cubicBezTo>
                <a:cubicBezTo>
                  <a:pt x="5474" y="12576"/>
                  <a:pt x="5490" y="12551"/>
                  <a:pt x="5507" y="12526"/>
                </a:cubicBezTo>
              </a:path>
              <a:path w="869" h="2060">
                <a:moveTo>
                  <a:pt x="5085" y="13469"/>
                </a:moveTo>
                <a:cubicBezTo>
                  <a:pt x="5169" y="13658"/>
                  <a:pt x="5220" y="13846"/>
                  <a:pt x="5283" y="14039"/>
                </a:cubicBezTo>
              </a:path>
              <a:path w="869" h="2060">
                <a:moveTo>
                  <a:pt x="4837" y="13593"/>
                </a:moveTo>
                <a:cubicBezTo>
                  <a:pt x="4959" y="13431"/>
                  <a:pt x="5220" y="13219"/>
                  <a:pt x="5457" y="13320"/>
                </a:cubicBezTo>
                <a:cubicBezTo>
                  <a:pt x="5703" y="13426"/>
                  <a:pt x="5738" y="13802"/>
                  <a:pt x="5581" y="13990"/>
                </a:cubicBezTo>
                <a:cubicBezTo>
                  <a:pt x="5511" y="14074"/>
                  <a:pt x="5382" y="14119"/>
                  <a:pt x="5283" y="141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29160" y="1874880"/>
            <a:ext cx="1544760" cy="349200"/>
          </a:xfrm>
          <a:custGeom>
            <a:avLst/>
            <a:gdLst/>
            <a:ahLst/>
            <a:rect l="l" t="t" r="r" b="b"/>
            <a:pathLst>
              <a:path w="4292" h="968">
                <a:moveTo>
                  <a:pt x="15081" y="5457"/>
                </a:moveTo>
                <a:cubicBezTo>
                  <a:pt x="15327" y="5471"/>
                  <a:pt x="15558" y="5541"/>
                  <a:pt x="15801" y="5581"/>
                </a:cubicBezTo>
                <a:cubicBezTo>
                  <a:pt x="16167" y="5642"/>
                  <a:pt x="16508" y="5724"/>
                  <a:pt x="16867" y="5804"/>
                </a:cubicBezTo>
                <a:cubicBezTo>
                  <a:pt x="16985" y="5830"/>
                  <a:pt x="17095" y="5829"/>
                  <a:pt x="17214" y="5829"/>
                </a:cubicBezTo>
                <a:cubicBezTo>
                  <a:pt x="17259" y="5829"/>
                  <a:pt x="17272" y="5826"/>
                  <a:pt x="17289" y="5854"/>
                </a:cubicBezTo>
              </a:path>
              <a:path w="4292" h="968">
                <a:moveTo>
                  <a:pt x="18083" y="5879"/>
                </a:moveTo>
                <a:cubicBezTo>
                  <a:pt x="18110" y="5822"/>
                  <a:pt x="18116" y="5799"/>
                  <a:pt x="18083" y="5755"/>
                </a:cubicBezTo>
                <a:cubicBezTo>
                  <a:pt x="17992" y="5827"/>
                  <a:pt x="18001" y="5878"/>
                  <a:pt x="18058" y="5978"/>
                </a:cubicBezTo>
                <a:cubicBezTo>
                  <a:pt x="18140" y="5896"/>
                  <a:pt x="18164" y="5911"/>
                  <a:pt x="18083" y="5829"/>
                </a:cubicBezTo>
              </a:path>
              <a:path w="4292" h="968">
                <a:moveTo>
                  <a:pt x="18529" y="5283"/>
                </a:moveTo>
                <a:cubicBezTo>
                  <a:pt x="18568" y="5514"/>
                  <a:pt x="18596" y="5744"/>
                  <a:pt x="18604" y="5978"/>
                </a:cubicBezTo>
                <a:cubicBezTo>
                  <a:pt x="18604" y="5986"/>
                  <a:pt x="18604" y="5995"/>
                  <a:pt x="18604" y="6003"/>
                </a:cubicBezTo>
              </a:path>
              <a:path w="4292" h="968">
                <a:moveTo>
                  <a:pt x="18827" y="5259"/>
                </a:moveTo>
                <a:cubicBezTo>
                  <a:pt x="18869" y="5450"/>
                  <a:pt x="18842" y="5754"/>
                  <a:pt x="18976" y="5904"/>
                </a:cubicBezTo>
                <a:cubicBezTo>
                  <a:pt x="19074" y="6014"/>
                  <a:pt x="19301" y="5811"/>
                  <a:pt x="19348" y="5730"/>
                </a:cubicBezTo>
                <a:cubicBezTo>
                  <a:pt x="19370" y="5640"/>
                  <a:pt x="19378" y="5616"/>
                  <a:pt x="19372" y="5556"/>
                </a:cubicBezTo>
                <a:cubicBezTo>
                  <a:pt x="19333" y="5508"/>
                  <a:pt x="19199" y="5451"/>
                  <a:pt x="19149" y="5556"/>
                </a:cubicBezTo>
                <a:cubicBezTo>
                  <a:pt x="19091" y="5678"/>
                  <a:pt x="19134" y="5810"/>
                  <a:pt x="19149" y="5928"/>
                </a:cubicBezTo>
              </a:path>
              <a:path w="4292" h="968">
                <a:moveTo>
                  <a:pt x="15156" y="6003"/>
                </a:moveTo>
                <a:cubicBezTo>
                  <a:pt x="15555" y="5860"/>
                  <a:pt x="15896" y="5648"/>
                  <a:pt x="16272" y="5457"/>
                </a:cubicBezTo>
                <a:cubicBezTo>
                  <a:pt x="16547" y="5330"/>
                  <a:pt x="16610" y="5305"/>
                  <a:pt x="16768" y="5209"/>
                </a:cubicBezTo>
              </a:path>
              <a:path w="4292" h="968">
                <a:moveTo>
                  <a:pt x="15156" y="6176"/>
                </a:moveTo>
                <a:cubicBezTo>
                  <a:pt x="15443" y="6056"/>
                  <a:pt x="15740" y="5915"/>
                  <a:pt x="16024" y="5779"/>
                </a:cubicBezTo>
                <a:cubicBezTo>
                  <a:pt x="16259" y="5666"/>
                  <a:pt x="16784" y="5330"/>
                  <a:pt x="16619" y="5531"/>
                </a:cubicBezTo>
              </a:path>
              <a:path w="4292" h="968">
                <a:moveTo>
                  <a:pt x="15429" y="6152"/>
                </a:moveTo>
                <a:cubicBezTo>
                  <a:pt x="15827" y="5994"/>
                  <a:pt x="16208" y="5813"/>
                  <a:pt x="16594" y="5631"/>
                </a:cubicBezTo>
                <a:cubicBezTo>
                  <a:pt x="16635" y="5614"/>
                  <a:pt x="16677" y="5598"/>
                  <a:pt x="16718" y="55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rite fractions as decimals and percents, and vice ver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Skill Practice:  Match each 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percent and fra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1.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  7%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2.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  4%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B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3.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  70%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4.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  40%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F. 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800600" y="16765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24280" y="2514600"/>
                <a:ext cx="514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724280" y="3429000"/>
                <a:ext cx="514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800600" y="4952880"/>
                <a:ext cx="514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1509840" y="1509840"/>
            <a:ext cx="204840" cy="384120"/>
          </a:xfrm>
          <a:custGeom>
            <a:avLst/>
            <a:gdLst/>
            <a:ahLst/>
            <a:rect l="l" t="t" r="r" b="b"/>
            <a:pathLst>
              <a:path w="571" h="1068">
                <a:moveTo>
                  <a:pt x="4366" y="4440"/>
                </a:moveTo>
                <a:cubicBezTo>
                  <a:pt x="4366" y="4672"/>
                  <a:pt x="4311" y="4908"/>
                  <a:pt x="4316" y="5135"/>
                </a:cubicBezTo>
                <a:cubicBezTo>
                  <a:pt x="4321" y="5371"/>
                  <a:pt x="4585" y="5206"/>
                  <a:pt x="4688" y="5159"/>
                </a:cubicBezTo>
                <a:cubicBezTo>
                  <a:pt x="4705" y="5151"/>
                  <a:pt x="4721" y="5143"/>
                  <a:pt x="4738" y="5135"/>
                </a:cubicBezTo>
              </a:path>
              <a:path w="571" h="1068">
                <a:moveTo>
                  <a:pt x="4341" y="4837"/>
                </a:moveTo>
                <a:cubicBezTo>
                  <a:pt x="4432" y="4786"/>
                  <a:pt x="4520" y="4735"/>
                  <a:pt x="4614" y="4688"/>
                </a:cubicBezTo>
              </a:path>
              <a:path w="571" h="1068">
                <a:moveTo>
                  <a:pt x="4192" y="4415"/>
                </a:moveTo>
                <a:cubicBezTo>
                  <a:pt x="4361" y="4359"/>
                  <a:pt x="4520" y="4279"/>
                  <a:pt x="4688" y="4217"/>
                </a:cubicBezTo>
                <a:cubicBezTo>
                  <a:pt x="4713" y="4209"/>
                  <a:pt x="4737" y="4200"/>
                  <a:pt x="4762" y="41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90760" y="2643120"/>
            <a:ext cx="339480" cy="420840"/>
          </a:xfrm>
          <a:custGeom>
            <a:avLst/>
            <a:gdLst/>
            <a:ahLst/>
            <a:rect l="l" t="t" r="r" b="b"/>
            <a:pathLst>
              <a:path w="944" h="1167">
                <a:moveTo>
                  <a:pt x="4564" y="7466"/>
                </a:moveTo>
                <a:cubicBezTo>
                  <a:pt x="4564" y="7724"/>
                  <a:pt x="4551" y="8004"/>
                  <a:pt x="4589" y="8260"/>
                </a:cubicBezTo>
                <a:cubicBezTo>
                  <a:pt x="4597" y="8277"/>
                  <a:pt x="4606" y="8293"/>
                  <a:pt x="4614" y="8310"/>
                </a:cubicBezTo>
              </a:path>
              <a:path w="944" h="1167">
                <a:moveTo>
                  <a:pt x="4142" y="7838"/>
                </a:moveTo>
                <a:cubicBezTo>
                  <a:pt x="4268" y="7605"/>
                  <a:pt x="4423" y="7429"/>
                  <a:pt x="4688" y="7342"/>
                </a:cubicBezTo>
                <a:cubicBezTo>
                  <a:pt x="4729" y="7342"/>
                  <a:pt x="4771" y="7342"/>
                  <a:pt x="4812" y="7342"/>
                </a:cubicBezTo>
                <a:cubicBezTo>
                  <a:pt x="4964" y="7571"/>
                  <a:pt x="4901" y="7654"/>
                  <a:pt x="4713" y="7863"/>
                </a:cubicBezTo>
                <a:cubicBezTo>
                  <a:pt x="4696" y="7880"/>
                  <a:pt x="4680" y="7896"/>
                  <a:pt x="4663" y="7913"/>
                </a:cubicBezTo>
                <a:cubicBezTo>
                  <a:pt x="4572" y="7820"/>
                  <a:pt x="4848" y="7798"/>
                  <a:pt x="4936" y="7813"/>
                </a:cubicBezTo>
                <a:cubicBezTo>
                  <a:pt x="5314" y="7876"/>
                  <a:pt x="4891" y="8246"/>
                  <a:pt x="4787" y="8334"/>
                </a:cubicBezTo>
                <a:cubicBezTo>
                  <a:pt x="4621" y="8459"/>
                  <a:pt x="4595" y="8500"/>
                  <a:pt x="4465" y="85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89040" y="3562200"/>
            <a:ext cx="216000" cy="438480"/>
          </a:xfrm>
          <a:custGeom>
            <a:avLst/>
            <a:gdLst/>
            <a:ahLst/>
            <a:rect l="l" t="t" r="r" b="b"/>
            <a:pathLst>
              <a:path w="597" h="1216">
                <a:moveTo>
                  <a:pt x="4490" y="10170"/>
                </a:moveTo>
                <a:cubicBezTo>
                  <a:pt x="4490" y="10467"/>
                  <a:pt x="4501" y="10770"/>
                  <a:pt x="4440" y="11063"/>
                </a:cubicBezTo>
                <a:cubicBezTo>
                  <a:pt x="4432" y="11079"/>
                  <a:pt x="4423" y="11096"/>
                  <a:pt x="4415" y="11112"/>
                </a:cubicBezTo>
                <a:cubicBezTo>
                  <a:pt x="4438" y="10796"/>
                  <a:pt x="4440" y="10485"/>
                  <a:pt x="4490" y="10170"/>
                </a:cubicBezTo>
                <a:cubicBezTo>
                  <a:pt x="4527" y="10003"/>
                  <a:pt x="4517" y="9980"/>
                  <a:pt x="4564" y="9897"/>
                </a:cubicBezTo>
                <a:cubicBezTo>
                  <a:pt x="4727" y="10176"/>
                  <a:pt x="4868" y="10463"/>
                  <a:pt x="4986" y="10765"/>
                </a:cubicBezTo>
                <a:cubicBezTo>
                  <a:pt x="4994" y="10790"/>
                  <a:pt x="5003" y="10815"/>
                  <a:pt x="5011" y="10840"/>
                </a:cubicBezTo>
              </a:path>
              <a:path w="597" h="1216">
                <a:moveTo>
                  <a:pt x="4514" y="10691"/>
                </a:moveTo>
                <a:cubicBezTo>
                  <a:pt x="4655" y="10621"/>
                  <a:pt x="4770" y="10514"/>
                  <a:pt x="4911" y="104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7040" y="5037120"/>
            <a:ext cx="204840" cy="473040"/>
          </a:xfrm>
          <a:custGeom>
            <a:avLst/>
            <a:gdLst/>
            <a:ahLst/>
            <a:rect l="l" t="t" r="r" b="b"/>
            <a:pathLst>
              <a:path w="571" h="1315">
                <a:moveTo>
                  <a:pt x="4812" y="14461"/>
                </a:moveTo>
                <a:cubicBezTo>
                  <a:pt x="4868" y="14592"/>
                  <a:pt x="4981" y="14946"/>
                  <a:pt x="5011" y="15180"/>
                </a:cubicBezTo>
                <a:cubicBezTo>
                  <a:pt x="5011" y="15221"/>
                  <a:pt x="5011" y="15263"/>
                  <a:pt x="5011" y="15304"/>
                </a:cubicBezTo>
                <a:cubicBezTo>
                  <a:pt x="4801" y="15028"/>
                  <a:pt x="4732" y="14788"/>
                  <a:pt x="4713" y="14436"/>
                </a:cubicBezTo>
                <a:cubicBezTo>
                  <a:pt x="4704" y="14269"/>
                  <a:pt x="5045" y="14098"/>
                  <a:pt x="5184" y="14015"/>
                </a:cubicBezTo>
                <a:cubicBezTo>
                  <a:pt x="5209" y="14007"/>
                  <a:pt x="5234" y="13998"/>
                  <a:pt x="5259" y="13990"/>
                </a:cubicBezTo>
              </a:path>
              <a:path w="571" h="1315">
                <a:moveTo>
                  <a:pt x="4887" y="14932"/>
                </a:moveTo>
                <a:cubicBezTo>
                  <a:pt x="5014" y="14827"/>
                  <a:pt x="5156" y="14741"/>
                  <a:pt x="5283" y="146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rite fractions as decimals and percents, and vice ver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pplication: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A: Write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a percen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B: Explain how you determined your answer.  Use what you know about percent in your explanation.  Use words, numbers, and/or symbols in your explanat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119400" y="2057400"/>
                <a:ext cx="3524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cp:lastPrinted>2009-09-29T02:37:49Z</cp:lastPrinted>
  <dcterms:modified xsi:type="dcterms:W3CDTF">2010-10-19T15:22:50Z</dcterms:modified>
  <cp:revision>55</cp:revision>
  <dc:subject/>
  <dc:title>Unit 1 – Variables and Equations </dc:title>
</cp:coreProperties>
</file>